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901-B433-495D-91DC-CF79D0CF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24F-B5A8-453B-9EC5-73BAE120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0BE-F527-4E7C-BF96-715D6A85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076-96EB-486D-88B9-41A68DAA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5E6-57F9-4DDA-BF3B-CE784C25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826-58FB-42BF-AC1D-8E3F0C65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AED-7403-4C21-B76D-E0E272B3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4AF-B0F8-4A74-A80F-5142A934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976-0A0D-4833-9061-8E8C4476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FA8-332A-48FB-B588-2B8BFA0E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15A-9C4F-42D6-9916-0DCF91E4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534-BF87-446D-A0F5-B9801395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0736-A1BF-4CA2-A34D-155B3062A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7621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S 327 Advanced C+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2209680"/>
            <a:ext cx="5334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ked Li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mov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6D1-8DE9-4B7B-885B-FBE0F55700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22096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first one the one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570-C4D7-4002-972C-2A7E6591AF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29000" y="31240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128320" y="1598760"/>
            <a:ext cx="1143000" cy="84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set the before and target 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C72-BD3C-4EEE-B1CC-3C4EA542B9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05320" y="34290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128320" y="1598760"/>
            <a:ext cx="1143000" cy="84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2120" y="2438280"/>
            <a:ext cx="2286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tptr points to the one we are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0B5-3F1B-4279-9594-89DF380447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05320" y="3657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128320" y="1598760"/>
            <a:ext cx="1143000" cy="84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2438280"/>
            <a:ext cx="2286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done y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04C-1356-431C-BD41-6B21C56149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38862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128320" y="1598760"/>
            <a:ext cx="1143000" cy="84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2120" y="2438280"/>
            <a:ext cx="2286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the one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FFE-94F9-419D-BACA-DDCA4676B8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51055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1447920" y="1598760"/>
            <a:ext cx="1823760" cy="205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2120" y="2438280"/>
            <a:ext cx="228600" cy="1143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move beforeptr to the targe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A98D-196E-439B-B998-DAC4A95EE7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33920" y="53341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1447920" y="1598760"/>
            <a:ext cx="1823760" cy="205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62120" y="2438280"/>
            <a:ext cx="1828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tptr moves ahead to the nex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E7B7-D41B-46A2-95AB-E22325A656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3657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447920" y="1598760"/>
            <a:ext cx="1823760" cy="205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62120" y="2438280"/>
            <a:ext cx="1828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done y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9799-1225-4279-BEFC-2AA88D6A2A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05320" y="38862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447920" y="1598760"/>
            <a:ext cx="1823760" cy="205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2438280"/>
            <a:ext cx="1828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the one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681-A0E1-4167-A89C-8901C45DFE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57600" y="51055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62120" y="2438280"/>
            <a:ext cx="1828800" cy="5335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move the beforeptr to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137-7B05-479D-93F3-33A03578DA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457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e will try removing the first letter from th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28195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9625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57150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46483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67616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057400" y="3581280"/>
            <a:ext cx="11430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133360" y="5029200"/>
            <a:ext cx="99036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1752480"/>
            <a:ext cx="759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16765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124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36576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295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6400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6477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7432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86000" y="601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219320"/>
            <a:ext cx="5029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ode * listfront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tolist(listfront,”PEARL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 remove(listfront,’P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“remove worked”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“remove failed”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A7A-2E08-46C3-BB25-CE5F6D6567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57600" y="53341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gtptr ahead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8E0-BCF5-4601-9AF8-5986CED59A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581280" y="3657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done y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E3E-83B4-4624-83C8-6FC314F433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581280" y="38862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the one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EA8-B103-4123-A015-8630D02C1D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657600" y="51055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271680" y="1598760"/>
            <a:ext cx="81000" cy="274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move the beforeptr to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C9E7-C2EF-4C6F-97F7-0B64097BBA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57600" y="53341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1680" y="1598760"/>
            <a:ext cx="81000" cy="274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2438280"/>
            <a:ext cx="38088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gtptr ahead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9C85-32CF-4066-A521-F5E29DE597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05320" y="3657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71680" y="1598760"/>
            <a:ext cx="81000" cy="274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62120" y="2438280"/>
            <a:ext cx="38088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done y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589-9D9E-4092-BBE8-214BEDD424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505320" y="38862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271680" y="1598760"/>
            <a:ext cx="81000" cy="274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62120" y="2438280"/>
            <a:ext cx="38088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the one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F8C5-5535-4769-9BA4-46A8E38AE3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505320" y="41148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71680" y="1598760"/>
            <a:ext cx="81000" cy="274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62120" y="2438280"/>
            <a:ext cx="380880" cy="28958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733920" y="762120"/>
            <a:ext cx="51814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tgtptr-&gt;nex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 node should point to after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E4F1-9C83-43C5-BCCD-BBFD141BB28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114800" y="41148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74320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819520" y="5105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954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3048120" y="472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271680" y="1598760"/>
            <a:ext cx="81000" cy="274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62120" y="2438280"/>
            <a:ext cx="38088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90512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98108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574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22096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1600200" y="4572000"/>
            <a:ext cx="990720" cy="838080"/>
          </a:xfrm>
          <a:prstGeom prst="line">
            <a:avLst/>
          </a:prstGeom>
          <a:ln w="2844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beforeptr-&gt;nex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make before one point after targe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6C8-6F49-473F-B102-A682A07C25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114800" y="44197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74320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5105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8954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3048120" y="472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1680" y="1598760"/>
            <a:ext cx="81000" cy="274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2438280"/>
            <a:ext cx="38088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ycle the targe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BC6-D6AC-4CB2-977C-DB51FDF179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52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6360" y="914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23623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5053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41911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218960" y="28954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523880" y="3124080"/>
            <a:ext cx="11430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600200" y="457200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447920"/>
            <a:ext cx="6094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762120"/>
            <a:ext cx="990360" cy="1676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5335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4960" y="228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5335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295280"/>
            <a:ext cx="7617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9320" y="19018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228600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3040" y="9907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137160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304920"/>
            <a:ext cx="54100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26668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32004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765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53341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2096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no list, 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A670-D888-4B27-B84B-DD4C334224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114800" y="46483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74320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819520" y="5105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8954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3048120" y="472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271680" y="1598760"/>
            <a:ext cx="81000" cy="274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2120" y="2438280"/>
            <a:ext cx="38088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one, it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699-619C-49C7-B60F-8C78146AC3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1143000" y="39625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048120" y="46483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2057400" y="3581280"/>
            <a:ext cx="11430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1523520" y="175248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752480" y="16765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8120" y="3124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505320" y="36576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371600" y="1295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35268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505320" y="5638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36576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049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emoving the last letter, the list looks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62120" y="26668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447920" y="3200400"/>
            <a:ext cx="1522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D59-64A8-4121-8CF9-CF1F2914C1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227160" y="457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ly we will try removing the letter R from th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827360" y="28195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141560" y="39625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293840" y="57150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046320" y="46483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167436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2055960" y="3581280"/>
            <a:ext cx="11430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2131920" y="502920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360520" y="1752480"/>
            <a:ext cx="763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751040" y="16765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046320" y="3124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503520" y="36576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370160" y="1295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43684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513160" y="6400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89120" y="6477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27417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2284560" y="601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113360" y="1219320"/>
            <a:ext cx="5029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ode * listfront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tolist(listfront,”PEARL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 remove(listfront,’R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“remove worked”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“remove failed”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D8ED-5464-42B6-ABA7-9F89121AC8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505320" y="16714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35268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no list, 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A9A-A845-4836-A87D-4CA25F6A65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429000" y="22096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first one the one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6527-AA55-478E-BD30-B4875518570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429000" y="31240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2128320" y="1598760"/>
            <a:ext cx="1143000" cy="84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set the before and target 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642-98EB-4D77-9B6E-AF800E9B0C2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505320" y="34290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2128320" y="1598760"/>
            <a:ext cx="1143000" cy="84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62120" y="2438280"/>
            <a:ext cx="2286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tptr points to the one we are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758-1A4D-47A2-998C-3BD9729E1DD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05320" y="3657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2128320" y="1598760"/>
            <a:ext cx="1143000" cy="84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62120" y="2438280"/>
            <a:ext cx="2286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done y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68F4-C0FF-4E05-A85D-CB3C4839BE0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733920" y="38862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2128320" y="1598760"/>
            <a:ext cx="1143000" cy="84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62120" y="2438280"/>
            <a:ext cx="2286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the one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966-D56F-4743-851C-87C24206A9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733920" y="51055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1447920" y="1598760"/>
            <a:ext cx="1823760" cy="205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62120" y="2438280"/>
            <a:ext cx="228600" cy="1143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2209680" y="1600200"/>
            <a:ext cx="533520" cy="838080"/>
          </a:xfrm>
          <a:prstGeom prst="line">
            <a:avLst/>
          </a:prstGeom>
          <a:ln w="2844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move the beforeptr to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7CC-EDD9-4740-A9B1-5A1815A3FF7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838080"/>
            <a:ext cx="5410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22096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53341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2096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752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first one the one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F17-FF07-4548-835D-974DB21D71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733920" y="53341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1447920" y="1598760"/>
            <a:ext cx="1823760" cy="205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62120" y="2438280"/>
            <a:ext cx="1828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09480" y="2514600"/>
            <a:ext cx="228600" cy="1066680"/>
          </a:xfrm>
          <a:prstGeom prst="line">
            <a:avLst/>
          </a:prstGeom>
          <a:ln w="2844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gtptr ahead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0366-DC72-4C3D-BDDF-F71D22C77BE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429000" y="3657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1447920" y="1598760"/>
            <a:ext cx="1823760" cy="205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62120" y="2438280"/>
            <a:ext cx="1828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done y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F8A-8C9E-4BC2-9B1A-171222EB84B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505320" y="38862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1447920" y="1598760"/>
            <a:ext cx="1823760" cy="205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62120" y="2438280"/>
            <a:ext cx="1828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the one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1C4-41D3-4C98-A3A1-8FA61734670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657600" y="51055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2120" y="2438280"/>
            <a:ext cx="1828800" cy="5335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1447560" y="1523880"/>
            <a:ext cx="1447560" cy="2057400"/>
          </a:xfrm>
          <a:prstGeom prst="line">
            <a:avLst/>
          </a:prstGeom>
          <a:ln w="2844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move the beforeptr to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DA9-F956-4BEE-83C1-E8B1654DD9B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657600" y="53341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914400" y="2362320"/>
            <a:ext cx="1676520" cy="533160"/>
          </a:xfrm>
          <a:prstGeom prst="line">
            <a:avLst/>
          </a:prstGeom>
          <a:ln w="2844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gtptr ahead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B347-B73F-4972-A06D-DBFBC7F037B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657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done y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1329-DB31-4EBD-BA33-FBABA5F4873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581280" y="38862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the one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87A9-17A3-425F-9ABF-587947A46E1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971800" y="32004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09880" y="41148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tgtptr-&gt;nex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A should point to Node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462B-492F-49D7-A3C2-8B77049CDED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1294920" y="3200400"/>
            <a:ext cx="167652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809880" y="41148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H="1">
            <a:off x="3124080" y="3200400"/>
            <a:ext cx="76320" cy="990720"/>
          </a:xfrm>
          <a:prstGeom prst="line">
            <a:avLst/>
          </a:prstGeom>
          <a:ln w="2844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make before one point after targe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412-3C1C-499A-81DB-724EA7420C7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505320" y="299880"/>
            <a:ext cx="541008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1294920" y="3200400"/>
            <a:ext cx="167652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809880" y="44197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ycle the targe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FA4-FA00-4934-81CD-8D0E506264A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1447920"/>
            <a:ext cx="15228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757080"/>
            <a:ext cx="228600" cy="274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23623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53341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2096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752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371600"/>
            <a:ext cx="762120" cy="990720"/>
          </a:xfrm>
          <a:prstGeom prst="line">
            <a:avLst/>
          </a:prstGeom>
          <a:ln w="2844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685800"/>
            <a:ext cx="990720" cy="1752480"/>
          </a:xfrm>
          <a:prstGeom prst="line">
            <a:avLst/>
          </a:prstGeom>
          <a:ln w="2844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move the front pointer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B8C-DCCD-4BA8-B1EB-789A1D8388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1294920" y="3200400"/>
            <a:ext cx="167652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809880" y="45720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one, it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66AE-DEF5-4FC6-8619-79000F1FE21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1143000" y="39625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048120" y="46483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2057400" y="3581280"/>
            <a:ext cx="11430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1523520" y="175248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752480" y="16765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048120" y="3124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505320" y="36576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371600" y="1295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429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505320" y="5638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36576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049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emoving the letter ‘R’, the list looks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62120" y="26668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447920" y="3200400"/>
            <a:ext cx="1522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6751-0414-4E53-947F-CA7B077EB7E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447920"/>
            <a:ext cx="15228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757080"/>
            <a:ext cx="228600" cy="274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26668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53341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2096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752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one, it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8FCA-2317-4AFC-96F3-88EB067B7B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39625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57150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46483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057400" y="3581280"/>
            <a:ext cx="11430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133360" y="5029200"/>
            <a:ext cx="99036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676160" y="1752480"/>
            <a:ext cx="685800" cy="2210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16765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3124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36576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1295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6400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6477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432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286000" y="601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emoving the first letter, the list looks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043-77D6-4BCB-A874-0498A60E4A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7160" y="457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will try removing the last letter from th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27360" y="28195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1560" y="39625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3840" y="57150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6320" y="46483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67436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055960" y="3581280"/>
            <a:ext cx="11430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131920" y="502920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0520" y="1752480"/>
            <a:ext cx="763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1040" y="16765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6320" y="3124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03520" y="36576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0160" y="1295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684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13160" y="6400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89120" y="6477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7417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284560" y="601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3360" y="1219320"/>
            <a:ext cx="5029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ode * listfront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tolist(listfront,”PEARL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 remove(listfront,’L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“remove worked”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“remove failed”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B4A-64E9-420E-8B92-08F0B502E0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16714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no list, 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177-1260-4A13-B423-3A70FA33BA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03:50:18Z</dcterms:created>
  <dc:creator>kent archie</dc:creator>
  <dc:description/>
  <dc:language>en-US</dc:language>
  <cp:lastModifiedBy>kent archie</cp:lastModifiedBy>
  <dcterms:modified xsi:type="dcterms:W3CDTF">2003-09-08T03:25:28Z</dcterms:modified>
  <cp:revision>33</cp:revision>
  <dc:subject/>
  <dc:title>No Slide Title</dc:title>
</cp:coreProperties>
</file>