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971-731C-4CC5-A789-A5B3B497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2B2-30D9-4E8A-A4D3-95C413E6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246-D83B-4A03-A732-864C2F0E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A78-AB1D-4B71-B7B9-29BDC8E8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EAF-6CEF-4507-B840-33F6940B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685-82A0-4581-881C-F9A8114F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883-DB20-4C69-94DB-2A46FB6B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6DB-647E-4BD2-BA7B-5FC38E1B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846-90A4-47B7-8987-BF02058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0C9-1ED8-453E-93A3-4D6B5B1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A85-1C43-41BF-BC85-D5DF857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584-F513-4BDA-9CCF-CA90996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711-E9A0-423B-A1EE-C81878E0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762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S 327 Advanced C+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09680"/>
            <a:ext cx="5334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uble Linked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 Af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F67-44A9-4F8E-A9AA-F49162EECF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4572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51240" y="147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de after  the target must point back to the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4" idx="1"/>
            <a:endCxn id="529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0" idx="2"/>
            <a:endCxn id="536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45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prstDash val="dash"/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31" idx="3"/>
            <a:endCxn id="523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10" idx="3"/>
            <a:endCxn id="538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51" idx="2"/>
            <a:endCxn id="532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5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1"/>
            <a:endCxn id="558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1" idx="3"/>
            <a:endCxn id="529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59" idx="1"/>
            <a:endCxn id="535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39" idx="2"/>
            <a:endCxn id="558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37F-E2B0-44E8-AD08-B958CEDAC0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862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1240" y="147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de before the new node must poin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6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588" idx="1"/>
            <a:endCxn id="593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594" idx="2"/>
            <a:endCxn id="600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595" idx="3"/>
            <a:endCxn id="587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574" idx="3"/>
            <a:endCxn id="602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4" idx="2"/>
            <a:endCxn id="596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1"/>
            <a:endCxn id="621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24" idx="3"/>
            <a:endCxn id="593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22" idx="1"/>
            <a:endCxn id="599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03" idx="2"/>
            <a:endCxn id="621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594" idx="2"/>
            <a:endCxn id="629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AA0-DFA2-439A-8B2B-746D030DBE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5638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0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"/>
          <p:cNvCxnSpPr>
            <a:stCxn id="652" idx="1"/>
            <a:endCxn id="657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59" idx="3"/>
            <a:endCxn id="651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38" idx="3"/>
            <a:endCxn id="666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7" idx="2"/>
            <a:endCxn id="660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"/>
          <p:cNvCxnSpPr>
            <a:stCxn id="690" idx="1"/>
            <a:endCxn id="684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7" idx="3"/>
            <a:endCxn id="657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94" name=""/>
          <p:cNvCxnSpPr>
            <a:stCxn id="685" idx="1"/>
            <a:endCxn id="663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"/>
          <p:cNvCxnSpPr>
            <a:stCxn id="667" idx="2"/>
            <a:endCxn id="684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96" name=""/>
          <p:cNvCxnSpPr>
            <a:stCxn id="658" idx="2"/>
            <a:endCxn id="692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F17-74B3-44B1-8F3F-A4F3BA2D9F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dding R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13" idx="1"/>
            <a:endCxn id="718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36" name=""/>
          <p:cNvCxnSpPr>
            <a:stCxn id="720" idx="3"/>
            <a:endCxn id="712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699" idx="3"/>
            <a:endCxn id="727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41" idx="3"/>
            <a:endCxn id="718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45" name=""/>
          <p:cNvCxnSpPr>
            <a:stCxn id="739" idx="1"/>
            <a:endCxn id="724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>
            <a:stCxn id="728" idx="2"/>
            <a:endCxn id="738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47" name=""/>
          <p:cNvCxnSpPr>
            <a:stCxn id="719" idx="2"/>
            <a:endCxn id="743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C34-EF82-4159-A204-DE5818DD75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add the letter R after the let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addafter(listfront,’R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addafter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addafter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33520"/>
            <a:ext cx="144756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8380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430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33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9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79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86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175248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 rot="16200000">
            <a:off x="144648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0" idx="1"/>
            <a:endCxn id="65" idx="3"/>
          </p:cNvCxnSpPr>
          <p:nvPr/>
        </p:nvCxnSpPr>
        <p:spPr>
          <a:xfrm flipV="1" rot="10800000">
            <a:off x="1766160" y="4000320"/>
            <a:ext cx="658080" cy="267120"/>
          </a:xfrm>
          <a:prstGeom prst="curvedConnector5">
            <a:avLst>
              <a:gd name="adj1" fmla="val 49972"/>
              <a:gd name="adj2" fmla="val 49932"/>
              <a:gd name="adj3" fmla="val 4997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6" idx="2"/>
            <a:endCxn id="72" idx="1"/>
          </p:cNvCxnSpPr>
          <p:nvPr/>
        </p:nvCxnSpPr>
        <p:spPr>
          <a:xfrm flipH="1" rot="16200000">
            <a:off x="119916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H="1" flipV="1">
            <a:off x="175212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590920" y="5791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61" idx="3"/>
            <a:endCxn id="53" idx="3"/>
          </p:cNvCxnSpPr>
          <p:nvPr/>
        </p:nvCxnSpPr>
        <p:spPr>
          <a:xfrm flipH="1" flipV="1">
            <a:off x="2300040" y="2057040"/>
            <a:ext cx="1676880" cy="1944000"/>
          </a:xfrm>
          <a:prstGeom prst="curvedConnector5">
            <a:avLst>
              <a:gd name="adj1" fmla="val -12776"/>
              <a:gd name="adj2" fmla="val 49990"/>
              <a:gd name="adj3" fmla="val -1277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7" idx="3"/>
            <a:endCxn id="59" idx="1"/>
          </p:cNvCxnSpPr>
          <p:nvPr/>
        </p:nvCxnSpPr>
        <p:spPr>
          <a:xfrm flipV="1">
            <a:off x="1766880" y="3504960"/>
            <a:ext cx="658080" cy="1257840"/>
          </a:xfrm>
          <a:prstGeom prst="curvedConnector5">
            <a:avLst>
              <a:gd name="adj1" fmla="val 49972"/>
              <a:gd name="adj2" fmla="val 49985"/>
              <a:gd name="adj3" fmla="val 49972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46" idx="3"/>
            <a:endCxn id="74" idx="1"/>
          </p:cNvCxnSpPr>
          <p:nvPr/>
        </p:nvCxnSpPr>
        <p:spPr>
          <a:xfrm>
            <a:off x="176652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784-8B1D-421E-99F2-9B1CBB6AC4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1480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286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144756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1430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533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9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9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828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86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2767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175248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H="1" rot="16200000">
            <a:off x="144648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5" idx="1"/>
            <a:endCxn id="110" idx="3"/>
          </p:cNvCxnSpPr>
          <p:nvPr/>
        </p:nvCxnSpPr>
        <p:spPr>
          <a:xfrm flipV="1" rot="10800000">
            <a:off x="1766160" y="4000320"/>
            <a:ext cx="658080" cy="267120"/>
          </a:xfrm>
          <a:prstGeom prst="curvedConnector5">
            <a:avLst>
              <a:gd name="adj1" fmla="val 49972"/>
              <a:gd name="adj2" fmla="val 49932"/>
              <a:gd name="adj3" fmla="val 4997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2"/>
            <a:endCxn id="117" idx="1"/>
          </p:cNvCxnSpPr>
          <p:nvPr/>
        </p:nvCxnSpPr>
        <p:spPr>
          <a:xfrm flipH="1" rot="16200000">
            <a:off x="119916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/>
          <p:nvPr/>
        </p:nvCxnSpPr>
        <p:spPr>
          <a:xfrm flipH="1" flipV="1">
            <a:off x="175212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590920" y="5791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6" idx="3"/>
            <a:endCxn id="98" idx="3"/>
          </p:cNvCxnSpPr>
          <p:nvPr/>
        </p:nvCxnSpPr>
        <p:spPr>
          <a:xfrm flipH="1" flipV="1">
            <a:off x="2300040" y="2057040"/>
            <a:ext cx="1676880" cy="1944000"/>
          </a:xfrm>
          <a:prstGeom prst="curvedConnector5">
            <a:avLst>
              <a:gd name="adj1" fmla="val -12776"/>
              <a:gd name="adj2" fmla="val 49990"/>
              <a:gd name="adj3" fmla="val -1277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04" idx="1"/>
          </p:cNvCxnSpPr>
          <p:nvPr/>
        </p:nvCxnSpPr>
        <p:spPr>
          <a:xfrm flipV="1">
            <a:off x="1766880" y="3504960"/>
            <a:ext cx="658080" cy="1257840"/>
          </a:xfrm>
          <a:prstGeom prst="curvedConnector5">
            <a:avLst>
              <a:gd name="adj1" fmla="val 49972"/>
              <a:gd name="adj2" fmla="val 49985"/>
              <a:gd name="adj3" fmla="val 49972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91" idx="3"/>
            <a:endCxn id="119" idx="1"/>
          </p:cNvCxnSpPr>
          <p:nvPr/>
        </p:nvCxnSpPr>
        <p:spPr>
          <a:xfrm>
            <a:off x="176652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514600" y="38088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87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996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6400800"/>
            <a:ext cx="83808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184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632448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2" idx="2"/>
            <a:endCxn id="113" idx="1"/>
          </p:cNvCxnSpPr>
          <p:nvPr/>
        </p:nvCxnSpPr>
        <p:spPr>
          <a:xfrm rot="5400000">
            <a:off x="-12708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94E-83E0-44DD-8CD8-17F20DFF5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1336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514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124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16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3120" y="53352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120" y="8380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1143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156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3120" y="533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61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61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320" y="182880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032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44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8892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61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03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6840" y="32767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684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98960" y="37339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544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26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68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716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16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8892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576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29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1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456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456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632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316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03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45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/>
          <p:nvPr/>
        </p:nvCxnSpPr>
        <p:spPr>
          <a:xfrm>
            <a:off x="175104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144612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59" idx="1"/>
            <a:endCxn id="164" idx="3"/>
          </p:cNvCxnSpPr>
          <p:nvPr/>
        </p:nvCxnSpPr>
        <p:spPr>
          <a:xfrm flipV="1" rot="10800000">
            <a:off x="1764720" y="400032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5" idx="2"/>
            <a:endCxn id="171" idx="1"/>
          </p:cNvCxnSpPr>
          <p:nvPr/>
        </p:nvCxnSpPr>
        <p:spPr>
          <a:xfrm flipH="1" rot="16200000">
            <a:off x="119772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 flipV="1">
            <a:off x="175068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589120" y="5791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456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0" idx="3"/>
            <a:endCxn id="152" idx="3"/>
          </p:cNvCxnSpPr>
          <p:nvPr/>
        </p:nvCxnSpPr>
        <p:spPr>
          <a:xfrm flipH="1" flipV="1">
            <a:off x="2297880" y="20570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6" idx="3"/>
            <a:endCxn id="158" idx="1"/>
          </p:cNvCxnSpPr>
          <p:nvPr/>
        </p:nvCxnSpPr>
        <p:spPr>
          <a:xfrm flipV="1">
            <a:off x="1765080" y="3504960"/>
            <a:ext cx="657720" cy="125784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5" idx="3"/>
            <a:endCxn id="173" idx="1"/>
          </p:cNvCxnSpPr>
          <p:nvPr/>
        </p:nvCxnSpPr>
        <p:spPr>
          <a:xfrm>
            <a:off x="176508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513160" y="38088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69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78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640080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8040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6560" y="632448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6" idx="2"/>
            <a:endCxn id="167" idx="1"/>
          </p:cNvCxnSpPr>
          <p:nvPr/>
        </p:nvCxnSpPr>
        <p:spPr>
          <a:xfrm rot="5400000">
            <a:off x="-12852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2EB-F971-4A08-95F7-BABB1877D0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11336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819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124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16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3120" y="53352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3120" y="8380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3120" y="1143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156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3120" y="533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1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61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0320" y="182880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44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8892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61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03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6840" y="32767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684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98960" y="37339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26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68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716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716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892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576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29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1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456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456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632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316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03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45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175104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1" name=""/>
          <p:cNvCxnSpPr/>
          <p:nvPr/>
        </p:nvCxnSpPr>
        <p:spPr>
          <a:xfrm flipH="1" rot="16200000">
            <a:off x="144612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13" idx="1"/>
            <a:endCxn id="218" idx="3"/>
          </p:cNvCxnSpPr>
          <p:nvPr/>
        </p:nvCxnSpPr>
        <p:spPr>
          <a:xfrm flipV="1" rot="10800000">
            <a:off x="1764720" y="400032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9" idx="2"/>
            <a:endCxn id="225" idx="1"/>
          </p:cNvCxnSpPr>
          <p:nvPr/>
        </p:nvCxnSpPr>
        <p:spPr>
          <a:xfrm flipH="1" rot="16200000">
            <a:off x="119772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/>
          <p:nvPr/>
        </p:nvCxnSpPr>
        <p:spPr>
          <a:xfrm flipH="1" flipV="1">
            <a:off x="175068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2589120" y="5791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456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4" idx="3"/>
            <a:endCxn id="206" idx="3"/>
          </p:cNvCxnSpPr>
          <p:nvPr/>
        </p:nvCxnSpPr>
        <p:spPr>
          <a:xfrm flipH="1" flipV="1">
            <a:off x="2297880" y="20570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12" idx="1"/>
          </p:cNvCxnSpPr>
          <p:nvPr/>
        </p:nvCxnSpPr>
        <p:spPr>
          <a:xfrm flipV="1">
            <a:off x="1765080" y="3504960"/>
            <a:ext cx="657720" cy="125784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199" idx="3"/>
            <a:endCxn id="227" idx="1"/>
          </p:cNvCxnSpPr>
          <p:nvPr/>
        </p:nvCxnSpPr>
        <p:spPr>
          <a:xfrm>
            <a:off x="176508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513160" y="380880"/>
            <a:ext cx="838080" cy="2286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969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78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5120" y="640080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8040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6560" y="6324480"/>
            <a:ext cx="83808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0" idx="2"/>
            <a:endCxn id="221" idx="1"/>
          </p:cNvCxnSpPr>
          <p:nvPr/>
        </p:nvCxnSpPr>
        <p:spPr>
          <a:xfrm rot="5400000">
            <a:off x="-12852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228600" y="5562720"/>
            <a:ext cx="152388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019920"/>
            <a:ext cx="76212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019920"/>
            <a:ext cx="76176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3760" y="649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1320" y="652932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1"/>
            <a:endCxn id="247" idx="3"/>
          </p:cNvCxnSpPr>
          <p:nvPr/>
        </p:nvCxnSpPr>
        <p:spPr>
          <a:xfrm rot="10800000">
            <a:off x="1766160" y="579060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572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9A7-3692-41BD-B378-9F3DC091A3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ew nodes prev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4" idx="1"/>
            <a:endCxn id="279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0" idx="2"/>
            <a:endCxn id="286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1" idx="3"/>
            <a:endCxn id="273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60" idx="3"/>
            <a:endCxn id="288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1" idx="2"/>
            <a:endCxn id="282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1"/>
            <a:endCxn id="308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1" idx="3"/>
            <a:endCxn id="279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708-FB82-407B-B293-F346AF4398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ptr-&gt;get_next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value from next field of lpt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4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6" idx="1"/>
            <a:endCxn id="341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2" idx="2"/>
            <a:endCxn id="348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57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3" idx="3"/>
            <a:endCxn id="335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22" idx="3"/>
            <a:endCxn id="350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3" idx="2"/>
            <a:endCxn id="344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1"/>
            <a:endCxn id="370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3" idx="3"/>
            <a:endCxn id="341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31F-A635-4508-80AD-57B9CF0B6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p-&gt;set_n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hat to new nodes nex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16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98" idx="1"/>
            <a:endCxn id="403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04" idx="2"/>
            <a:endCxn id="410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405" idx="3"/>
            <a:endCxn id="397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384" idx="3"/>
            <a:endCxn id="412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25" idx="2"/>
            <a:endCxn id="406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8" idx="1"/>
            <a:endCxn id="432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5" idx="3"/>
            <a:endCxn id="403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3" idx="1"/>
            <a:endCxn id="409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ABA-972B-46AB-B6A4-2AC6CED13B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42670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f the target node is the 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9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61" idx="1"/>
            <a:endCxn id="466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7" idx="2"/>
            <a:endCxn id="473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68" idx="3"/>
            <a:endCxn id="460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47" idx="3"/>
            <a:endCxn id="475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88" idx="2"/>
            <a:endCxn id="469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1" idx="1"/>
            <a:endCxn id="495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8" idx="3"/>
            <a:endCxn id="466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96" idx="1"/>
            <a:endCxn id="472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755-C721-489C-9B99-C781E42269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3:50:18Z</dcterms:created>
  <dc:creator>kent archie</dc:creator>
  <dc:description/>
  <dc:language>en-US</dc:language>
  <cp:lastModifiedBy>kent archie</cp:lastModifiedBy>
  <dcterms:modified xsi:type="dcterms:W3CDTF">2003-09-15T22:08:53Z</dcterms:modified>
  <cp:revision>34</cp:revision>
  <dc:subject/>
  <dc:title>No Slide Title</dc:title>
</cp:coreProperties>
</file>