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A32-7A3E-481C-BCA8-025F8000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3E0-CC63-4985-AF00-3CACACC0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E1A-8868-4662-AB2D-DC79A67B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6A8-9484-4064-B791-A8CD956C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B95-370F-4724-B03B-237CC797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A3C-90F7-4BCC-8DEE-35D53FD3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17E-A977-4006-AC93-B0490AC2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26C-2DED-4DF1-AC7F-2FC8A5A9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CB8-CD9A-4653-92A9-83DFC6A8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5CB-AF46-4E71-B152-907067EB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50E-457D-48EC-8C91-564A087C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FB5-D525-4848-9B67-1DE09E8E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3475-9D90-4DF2-91F5-846A26428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762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S 327 Advanced C+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209680"/>
            <a:ext cx="5334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uble Linked 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 Af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1D0-2EDA-46D2-95E4-C2C1C55FC7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45720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51240" y="1476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de after  the target must point back to the new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4" idx="1"/>
            <a:endCxn id="529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0" idx="2"/>
            <a:endCxn id="536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545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prstDash val="dash"/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stCxn id="531" idx="3"/>
            <a:endCxn id="523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10" idx="3"/>
            <a:endCxn id="538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"/>
          <p:cNvCxnSpPr>
            <a:stCxn id="551" idx="2"/>
            <a:endCxn id="532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58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4" idx="1"/>
            <a:endCxn id="558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61" idx="3"/>
            <a:endCxn id="529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59" idx="1"/>
            <a:endCxn id="535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39" idx="2"/>
            <a:endCxn id="558" idx="3"/>
          </p:cNvCxnSpPr>
          <p:nvPr/>
        </p:nvCxnSpPr>
        <p:spPr>
          <a:xfrm rot="5400000">
            <a:off x="2436840" y="4872600"/>
            <a:ext cx="243360" cy="1585080"/>
          </a:xfrm>
          <a:prstGeom prst="curvedConnector2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F11-F981-4859-B573-62A28E4E4D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8620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1240" y="1476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de before the new node must point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6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588" idx="1"/>
            <a:endCxn id="593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594" idx="2"/>
            <a:endCxn id="600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12" name=""/>
          <p:cNvCxnSpPr>
            <a:stCxn id="595" idx="3"/>
            <a:endCxn id="587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574" idx="3"/>
            <a:endCxn id="602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4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4" idx="2"/>
            <a:endCxn id="596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621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7" idx="1"/>
            <a:endCxn id="621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24" idx="3"/>
            <a:endCxn id="593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22" idx="1"/>
            <a:endCxn id="599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2" name=""/>
          <p:cNvCxnSpPr>
            <a:stCxn id="603" idx="2"/>
            <a:endCxn id="621" idx="3"/>
          </p:cNvCxnSpPr>
          <p:nvPr/>
        </p:nvCxnSpPr>
        <p:spPr>
          <a:xfrm rot="5400000">
            <a:off x="2436840" y="4872600"/>
            <a:ext cx="243360" cy="1585080"/>
          </a:xfrm>
          <a:prstGeom prst="curvedConnector2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594" idx="2"/>
            <a:endCxn id="629" idx="1"/>
          </p:cNvCxnSpPr>
          <p:nvPr/>
        </p:nvCxnSpPr>
        <p:spPr>
          <a:xfrm rot="5400000">
            <a:off x="158040" y="5336640"/>
            <a:ext cx="748440" cy="151560"/>
          </a:xfrm>
          <a:prstGeom prst="curvedConnector5">
            <a:avLst>
              <a:gd name="adj1" fmla="val 33734"/>
              <a:gd name="adj2" fmla="val 125714"/>
              <a:gd name="adj3" fmla="val 33734"/>
            </a:avLst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109-38DD-48A0-83AD-435561DD89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6200" y="56386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0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"/>
          <p:cNvCxnSpPr>
            <a:stCxn id="652" idx="1"/>
            <a:endCxn id="657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59" idx="3"/>
            <a:endCxn id="651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76" name=""/>
          <p:cNvCxnSpPr>
            <a:stCxn id="638" idx="3"/>
            <a:endCxn id="666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77" idx="2"/>
            <a:endCxn id="660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1" name=""/>
          <p:cNvCxnSpPr>
            <a:stCxn id="690" idx="1"/>
            <a:endCxn id="684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87" idx="3"/>
            <a:endCxn id="657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94" name=""/>
          <p:cNvCxnSpPr>
            <a:stCxn id="685" idx="1"/>
            <a:endCxn id="663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5" name=""/>
          <p:cNvCxnSpPr>
            <a:stCxn id="667" idx="2"/>
            <a:endCxn id="684" idx="3"/>
          </p:cNvCxnSpPr>
          <p:nvPr/>
        </p:nvCxnSpPr>
        <p:spPr>
          <a:xfrm rot="5400000">
            <a:off x="2436840" y="4872600"/>
            <a:ext cx="243360" cy="1585080"/>
          </a:xfrm>
          <a:prstGeom prst="curvedConnector2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96" name=""/>
          <p:cNvCxnSpPr>
            <a:stCxn id="658" idx="2"/>
            <a:endCxn id="692" idx="1"/>
          </p:cNvCxnSpPr>
          <p:nvPr/>
        </p:nvCxnSpPr>
        <p:spPr>
          <a:xfrm rot="5400000">
            <a:off x="158040" y="5336640"/>
            <a:ext cx="748440" cy="151560"/>
          </a:xfrm>
          <a:prstGeom prst="curvedConnector5">
            <a:avLst>
              <a:gd name="adj1" fmla="val 33734"/>
              <a:gd name="adj2" fmla="val 125714"/>
              <a:gd name="adj3" fmla="val 3373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DB6-8953-4923-85EF-D49FB8D7B6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dding R, the list looks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13" idx="1"/>
            <a:endCxn id="718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36" name=""/>
          <p:cNvCxnSpPr>
            <a:stCxn id="720" idx="3"/>
            <a:endCxn id="712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37" name=""/>
          <p:cNvCxnSpPr>
            <a:stCxn id="699" idx="3"/>
            <a:endCxn id="727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38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41" idx="3"/>
            <a:endCxn id="718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45" name=""/>
          <p:cNvCxnSpPr>
            <a:stCxn id="739" idx="1"/>
            <a:endCxn id="724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>
            <a:stCxn id="728" idx="2"/>
            <a:endCxn id="738" idx="3"/>
          </p:cNvCxnSpPr>
          <p:nvPr/>
        </p:nvCxnSpPr>
        <p:spPr>
          <a:xfrm rot="5400000">
            <a:off x="2436840" y="4872600"/>
            <a:ext cx="243360" cy="1585080"/>
          </a:xfrm>
          <a:prstGeom prst="curvedConnector2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47" name=""/>
          <p:cNvCxnSpPr>
            <a:stCxn id="719" idx="2"/>
            <a:endCxn id="743" idx="1"/>
          </p:cNvCxnSpPr>
          <p:nvPr/>
        </p:nvCxnSpPr>
        <p:spPr>
          <a:xfrm rot="5400000">
            <a:off x="158040" y="5336640"/>
            <a:ext cx="748440" cy="151560"/>
          </a:xfrm>
          <a:prstGeom prst="curvedConnector5">
            <a:avLst>
              <a:gd name="adj1" fmla="val 33734"/>
              <a:gd name="adj2" fmla="val 125714"/>
              <a:gd name="adj3" fmla="val 3373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F5B-6277-4D6E-9DBE-8F0CDF4484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add the letter R after the let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1219320"/>
            <a:ext cx="5029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ode * listfron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tolist(listfront,”PEAL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 addafter(listfront,’R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addafter work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addafter fail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33520"/>
            <a:ext cx="144756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8380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4300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33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33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920" y="874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7920" y="117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828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286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0384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4956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4956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006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52578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2578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1752480" y="761760"/>
            <a:ext cx="534240" cy="1067400"/>
          </a:xfrm>
          <a:prstGeom prst="curvedConnector5">
            <a:avLst>
              <a:gd name="adj1" fmla="val 140121"/>
              <a:gd name="adj2" fmla="val 50000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 rot="16200000">
            <a:off x="1446480" y="243792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0" idx="1"/>
            <a:endCxn id="65" idx="3"/>
          </p:cNvCxnSpPr>
          <p:nvPr/>
        </p:nvCxnSpPr>
        <p:spPr>
          <a:xfrm flipV="1" rot="10800000">
            <a:off x="1766160" y="4000320"/>
            <a:ext cx="658080" cy="267120"/>
          </a:xfrm>
          <a:prstGeom prst="curvedConnector5">
            <a:avLst>
              <a:gd name="adj1" fmla="val 49972"/>
              <a:gd name="adj2" fmla="val 49932"/>
              <a:gd name="adj3" fmla="val 4997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6" idx="2"/>
            <a:endCxn id="72" idx="1"/>
          </p:cNvCxnSpPr>
          <p:nvPr/>
        </p:nvCxnSpPr>
        <p:spPr>
          <a:xfrm flipH="1" rot="16200000">
            <a:off x="1199160" y="4452840"/>
            <a:ext cx="48168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H="1" flipV="1">
            <a:off x="1752120" y="4342680"/>
            <a:ext cx="2057760" cy="1258200"/>
          </a:xfrm>
          <a:prstGeom prst="curvedConnector5">
            <a:avLst>
              <a:gd name="adj1" fmla="val -10411"/>
              <a:gd name="adj2" fmla="val 50000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590920" y="57913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2286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61" idx="3"/>
            <a:endCxn id="53" idx="3"/>
          </p:cNvCxnSpPr>
          <p:nvPr/>
        </p:nvCxnSpPr>
        <p:spPr>
          <a:xfrm flipH="1" flipV="1">
            <a:off x="2300040" y="2057040"/>
            <a:ext cx="1676880" cy="1944000"/>
          </a:xfrm>
          <a:prstGeom prst="curvedConnector5">
            <a:avLst>
              <a:gd name="adj1" fmla="val -12776"/>
              <a:gd name="adj2" fmla="val 49990"/>
              <a:gd name="adj3" fmla="val -12776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7" idx="3"/>
            <a:endCxn id="59" idx="1"/>
          </p:cNvCxnSpPr>
          <p:nvPr/>
        </p:nvCxnSpPr>
        <p:spPr>
          <a:xfrm flipV="1">
            <a:off x="1766880" y="3504960"/>
            <a:ext cx="658080" cy="1257840"/>
          </a:xfrm>
          <a:prstGeom prst="curvedConnector5">
            <a:avLst>
              <a:gd name="adj1" fmla="val 49972"/>
              <a:gd name="adj2" fmla="val 49985"/>
              <a:gd name="adj3" fmla="val 49972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46" idx="3"/>
            <a:endCxn id="74" idx="1"/>
          </p:cNvCxnSpPr>
          <p:nvPr/>
        </p:nvCxnSpPr>
        <p:spPr>
          <a:xfrm>
            <a:off x="1766520" y="990720"/>
            <a:ext cx="748440" cy="4039200"/>
          </a:xfrm>
          <a:prstGeom prst="curvedConnector5">
            <a:avLst>
              <a:gd name="adj1" fmla="val 49037"/>
              <a:gd name="adj2" fmla="val 49995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AFA-4E57-44E4-A8AF-BD70FEB989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14800" y="68580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2860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144756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8380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14300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533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533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7920" y="874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7920" y="117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828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86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2767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40384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4956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4956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48006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52578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52578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1752480" y="761760"/>
            <a:ext cx="534240" cy="1067400"/>
          </a:xfrm>
          <a:prstGeom prst="curvedConnector5">
            <a:avLst>
              <a:gd name="adj1" fmla="val 140121"/>
              <a:gd name="adj2" fmla="val 50000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flipH="1" rot="16200000">
            <a:off x="1446480" y="243792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5" idx="1"/>
            <a:endCxn id="110" idx="3"/>
          </p:cNvCxnSpPr>
          <p:nvPr/>
        </p:nvCxnSpPr>
        <p:spPr>
          <a:xfrm flipV="1" rot="10800000">
            <a:off x="1766160" y="4000320"/>
            <a:ext cx="658080" cy="267120"/>
          </a:xfrm>
          <a:prstGeom prst="curvedConnector5">
            <a:avLst>
              <a:gd name="adj1" fmla="val 49972"/>
              <a:gd name="adj2" fmla="val 49932"/>
              <a:gd name="adj3" fmla="val 4997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1" idx="2"/>
            <a:endCxn id="117" idx="1"/>
          </p:cNvCxnSpPr>
          <p:nvPr/>
        </p:nvCxnSpPr>
        <p:spPr>
          <a:xfrm flipH="1" rot="16200000">
            <a:off x="1199160" y="4452840"/>
            <a:ext cx="48168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/>
          <p:nvPr/>
        </p:nvCxnSpPr>
        <p:spPr>
          <a:xfrm flipH="1" flipV="1">
            <a:off x="1752120" y="4342680"/>
            <a:ext cx="2057760" cy="1258200"/>
          </a:xfrm>
          <a:prstGeom prst="curvedConnector5">
            <a:avLst>
              <a:gd name="adj1" fmla="val -10411"/>
              <a:gd name="adj2" fmla="val 50000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590920" y="57913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2286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06" idx="3"/>
            <a:endCxn id="98" idx="3"/>
          </p:cNvCxnSpPr>
          <p:nvPr/>
        </p:nvCxnSpPr>
        <p:spPr>
          <a:xfrm flipH="1" flipV="1">
            <a:off x="2300040" y="2057040"/>
            <a:ext cx="1676880" cy="1944000"/>
          </a:xfrm>
          <a:prstGeom prst="curvedConnector5">
            <a:avLst>
              <a:gd name="adj1" fmla="val -12776"/>
              <a:gd name="adj2" fmla="val 49990"/>
              <a:gd name="adj3" fmla="val -12776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04" idx="1"/>
          </p:cNvCxnSpPr>
          <p:nvPr/>
        </p:nvCxnSpPr>
        <p:spPr>
          <a:xfrm flipV="1">
            <a:off x="1766880" y="3504960"/>
            <a:ext cx="658080" cy="1257840"/>
          </a:xfrm>
          <a:prstGeom prst="curvedConnector5">
            <a:avLst>
              <a:gd name="adj1" fmla="val 49972"/>
              <a:gd name="adj2" fmla="val 49985"/>
              <a:gd name="adj3" fmla="val 49972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91" idx="3"/>
            <a:endCxn id="119" idx="1"/>
          </p:cNvCxnSpPr>
          <p:nvPr/>
        </p:nvCxnSpPr>
        <p:spPr>
          <a:xfrm>
            <a:off x="1766520" y="990720"/>
            <a:ext cx="748440" cy="4039200"/>
          </a:xfrm>
          <a:prstGeom prst="curvedConnector5">
            <a:avLst>
              <a:gd name="adj1" fmla="val 49037"/>
              <a:gd name="adj2" fmla="val 49995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514600" y="38088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98760" y="38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99680" y="6362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6400800"/>
            <a:ext cx="83808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81840" y="6286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632448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2" idx="2"/>
            <a:endCxn id="113" idx="1"/>
          </p:cNvCxnSpPr>
          <p:nvPr/>
        </p:nvCxnSpPr>
        <p:spPr>
          <a:xfrm rot="5400000">
            <a:off x="-127080" y="120708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A8B-2B79-4D23-94A8-EF03A8E76A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113360" y="68580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2514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124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16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3120" y="53352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120" y="8380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3120" y="11430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1560" y="533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3120" y="533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6120" y="874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6120" y="117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0320" y="182880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032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44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8892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612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032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6840" y="32767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684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98960" y="37339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544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264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684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7160" y="40384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7160" y="44956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88920" y="44956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5760" y="4038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296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16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4560" y="48006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4560" y="52578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6320" y="52578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3160" y="4800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036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456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/>
          <p:nvPr/>
        </p:nvCxnSpPr>
        <p:spPr>
          <a:xfrm>
            <a:off x="1751040" y="761760"/>
            <a:ext cx="534240" cy="1067400"/>
          </a:xfrm>
          <a:prstGeom prst="curvedConnector5">
            <a:avLst>
              <a:gd name="adj1" fmla="val 140121"/>
              <a:gd name="adj2" fmla="val 50000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 flipH="1" rot="16200000">
            <a:off x="1446120" y="243792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59" idx="1"/>
            <a:endCxn id="164" idx="3"/>
          </p:cNvCxnSpPr>
          <p:nvPr/>
        </p:nvCxnSpPr>
        <p:spPr>
          <a:xfrm flipV="1" rot="10800000">
            <a:off x="1764720" y="400032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5" idx="2"/>
            <a:endCxn id="171" idx="1"/>
          </p:cNvCxnSpPr>
          <p:nvPr/>
        </p:nvCxnSpPr>
        <p:spPr>
          <a:xfrm flipH="1" rot="16200000">
            <a:off x="1197720" y="4452840"/>
            <a:ext cx="48168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H="1" flipV="1">
            <a:off x="1750680" y="4342680"/>
            <a:ext cx="2057760" cy="1258200"/>
          </a:xfrm>
          <a:prstGeom prst="curvedConnector5">
            <a:avLst>
              <a:gd name="adj1" fmla="val -10411"/>
              <a:gd name="adj2" fmla="val 50000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2589120" y="57913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4560" y="2286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0" idx="3"/>
            <a:endCxn id="152" idx="3"/>
          </p:cNvCxnSpPr>
          <p:nvPr/>
        </p:nvCxnSpPr>
        <p:spPr>
          <a:xfrm flipH="1" flipV="1">
            <a:off x="2297880" y="20570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66" idx="3"/>
            <a:endCxn id="158" idx="1"/>
          </p:cNvCxnSpPr>
          <p:nvPr/>
        </p:nvCxnSpPr>
        <p:spPr>
          <a:xfrm flipV="1">
            <a:off x="1765080" y="3504960"/>
            <a:ext cx="657720" cy="125784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5" idx="3"/>
            <a:endCxn id="173" idx="1"/>
          </p:cNvCxnSpPr>
          <p:nvPr/>
        </p:nvCxnSpPr>
        <p:spPr>
          <a:xfrm>
            <a:off x="1765080" y="990720"/>
            <a:ext cx="748440" cy="4039200"/>
          </a:xfrm>
          <a:prstGeom prst="curvedConnector5">
            <a:avLst>
              <a:gd name="adj1" fmla="val 49037"/>
              <a:gd name="adj2" fmla="val 49995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513160" y="38088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6960" y="38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7880" y="6362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120" y="640080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80400" y="6286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6560" y="632448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6" idx="2"/>
            <a:endCxn id="167" idx="1"/>
          </p:cNvCxnSpPr>
          <p:nvPr/>
        </p:nvCxnSpPr>
        <p:spPr>
          <a:xfrm rot="5400000">
            <a:off x="-128520" y="120708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419-5A80-4D00-99A6-63B95FDE35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113360" y="68580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819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124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new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16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3120" y="53352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3120" y="8380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3120" y="11430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1560" y="533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3120" y="533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120" y="874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6120" y="117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0320" y="182880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032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44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8892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612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032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6840" y="32767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684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98960" y="37339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264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684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7160" y="40384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7160" y="44956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88920" y="44956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5760" y="4038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296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716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4560" y="48006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4560" y="52578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6320" y="52578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3160" y="4800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036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456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>
            <a:off x="1751040" y="761760"/>
            <a:ext cx="534240" cy="1067400"/>
          </a:xfrm>
          <a:prstGeom prst="curvedConnector5">
            <a:avLst>
              <a:gd name="adj1" fmla="val 140121"/>
              <a:gd name="adj2" fmla="val 50000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1" name=""/>
          <p:cNvCxnSpPr/>
          <p:nvPr/>
        </p:nvCxnSpPr>
        <p:spPr>
          <a:xfrm flipH="1" rot="16200000">
            <a:off x="1446120" y="243792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13" idx="1"/>
            <a:endCxn id="218" idx="3"/>
          </p:cNvCxnSpPr>
          <p:nvPr/>
        </p:nvCxnSpPr>
        <p:spPr>
          <a:xfrm flipV="1" rot="10800000">
            <a:off x="1764720" y="400032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19" idx="2"/>
            <a:endCxn id="225" idx="1"/>
          </p:cNvCxnSpPr>
          <p:nvPr/>
        </p:nvCxnSpPr>
        <p:spPr>
          <a:xfrm flipH="1" rot="16200000">
            <a:off x="1197720" y="4452840"/>
            <a:ext cx="48168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/>
          <p:nvPr/>
        </p:nvCxnSpPr>
        <p:spPr>
          <a:xfrm flipH="1" flipV="1">
            <a:off x="1750680" y="4342680"/>
            <a:ext cx="2057760" cy="1258200"/>
          </a:xfrm>
          <a:prstGeom prst="curvedConnector5">
            <a:avLst>
              <a:gd name="adj1" fmla="val -10411"/>
              <a:gd name="adj2" fmla="val 50000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2589120" y="57913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4560" y="2286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4" idx="3"/>
            <a:endCxn id="206" idx="3"/>
          </p:cNvCxnSpPr>
          <p:nvPr/>
        </p:nvCxnSpPr>
        <p:spPr>
          <a:xfrm flipH="1" flipV="1">
            <a:off x="2297880" y="20570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12" idx="1"/>
          </p:cNvCxnSpPr>
          <p:nvPr/>
        </p:nvCxnSpPr>
        <p:spPr>
          <a:xfrm flipV="1">
            <a:off x="1765080" y="3504960"/>
            <a:ext cx="657720" cy="125784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199" idx="3"/>
            <a:endCxn id="227" idx="1"/>
          </p:cNvCxnSpPr>
          <p:nvPr/>
        </p:nvCxnSpPr>
        <p:spPr>
          <a:xfrm>
            <a:off x="1765080" y="990720"/>
            <a:ext cx="748440" cy="4039200"/>
          </a:xfrm>
          <a:prstGeom prst="curvedConnector5">
            <a:avLst>
              <a:gd name="adj1" fmla="val 49037"/>
              <a:gd name="adj2" fmla="val 49995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2513160" y="380880"/>
            <a:ext cx="838080" cy="2286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96960" y="38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7880" y="6362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5120" y="640080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80400" y="6286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6560" y="6324480"/>
            <a:ext cx="83808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0" idx="2"/>
            <a:endCxn id="221" idx="1"/>
          </p:cNvCxnSpPr>
          <p:nvPr/>
        </p:nvCxnSpPr>
        <p:spPr>
          <a:xfrm rot="5400000">
            <a:off x="-128520" y="120708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228600" y="5562720"/>
            <a:ext cx="152388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6019920"/>
            <a:ext cx="762120" cy="5331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6019920"/>
            <a:ext cx="761760" cy="5331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59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9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3760" y="6491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11320" y="652932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3" idx="1"/>
            <a:endCxn id="247" idx="3"/>
          </p:cNvCxnSpPr>
          <p:nvPr/>
        </p:nvCxnSpPr>
        <p:spPr>
          <a:xfrm rot="10800000">
            <a:off x="1766160" y="579060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4572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79A-C202-466C-884F-A6CCA54E46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new nodes prev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4" idx="1"/>
            <a:endCxn id="279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0" idx="2"/>
            <a:endCxn id="286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1" idx="3"/>
            <a:endCxn id="273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60" idx="3"/>
            <a:endCxn id="288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1" idx="2"/>
            <a:endCxn id="282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4" idx="1"/>
            <a:endCxn id="308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1" idx="3"/>
            <a:endCxn id="279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630-934A-4D9D-B404-0FF31D62D9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ptr-&gt;get_next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value from next field of lpt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4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36" idx="1"/>
            <a:endCxn id="341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42" idx="2"/>
            <a:endCxn id="348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57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3" idx="3"/>
            <a:endCxn id="335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22" idx="3"/>
            <a:endCxn id="350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3" idx="2"/>
            <a:endCxn id="344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6" idx="1"/>
            <a:endCxn id="370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3" idx="3"/>
            <a:endCxn id="341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515-FCAC-4044-92E2-39E81D959A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p-&gt;set_n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hat to new nodes nex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16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98" idx="1"/>
            <a:endCxn id="403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04" idx="2"/>
            <a:endCxn id="410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stCxn id="405" idx="3"/>
            <a:endCxn id="397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384" idx="3"/>
            <a:endCxn id="412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25" idx="2"/>
            <a:endCxn id="406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8" idx="1"/>
            <a:endCxn id="432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5" idx="3"/>
            <a:endCxn id="403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33" idx="1"/>
            <a:endCxn id="409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B45-B5E1-4954-AC3E-157B92C4AA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42670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f the target node is the las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9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61" idx="1"/>
            <a:endCxn id="466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67" idx="2"/>
            <a:endCxn id="473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68" idx="3"/>
            <a:endCxn id="460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47" idx="3"/>
            <a:endCxn id="475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8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88" idx="2"/>
            <a:endCxn id="469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1" idx="1"/>
            <a:endCxn id="495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8" idx="3"/>
            <a:endCxn id="466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96" idx="1"/>
            <a:endCxn id="472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BCE-3E35-4048-8171-8C6B8D5786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03:50:18Z</dcterms:created>
  <dc:creator>kent archie</dc:creator>
  <dc:description/>
  <dc:language>en-US</dc:language>
  <cp:lastModifiedBy>kent archie</cp:lastModifiedBy>
  <dcterms:modified xsi:type="dcterms:W3CDTF">2003-09-15T22:08:53Z</dcterms:modified>
  <cp:revision>34</cp:revision>
  <dc:subject/>
  <dc:title>No Slide Title</dc:title>
</cp:coreProperties>
</file>