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402-400B-4BEA-ADE2-B1CCC437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BAE8-1A13-44F1-A80F-B6E147C5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7A4-B861-40BB-95DA-33191B55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5B7-3369-4011-8886-6D066E85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395-5ED8-4452-8600-21510085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B819-D9D2-449A-A55B-BD59CB6A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A62-BADA-420F-816F-F452E975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340-7E9D-4767-BBFD-74EEAAD9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D82-15C3-4358-956D-9D2A670F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9B4-D728-48D8-9C49-91E0B271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923-A3D0-4572-87B8-E8DDE842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D3B-577A-40E6-94B4-B76BAC50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74E2-EFBF-4310-99C8-6F54F887D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 327 Binary Trees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41148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447920" y="1752480"/>
            <a:ext cx="30477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114300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 inprintr(bagel) from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8006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447920" y="1752480"/>
            <a:ext cx="30477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876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 inprintr(NULL) from inprintr(bag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518148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447920" y="1752480"/>
            <a:ext cx="30477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4876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76920" y="40384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47920" y="1752480"/>
            <a:ext cx="30477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91320" y="114300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inprintr(bagel) from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0600" y="51814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447920" y="1752480"/>
            <a:ext cx="30477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4876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556272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600200" y="23623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, we have printed the entire left side of the subtree bel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ow we are back 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ontinue from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 inprintr(root) from inprintr(bag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876920" y="48006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48769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inprintr(dog) from inprintr(c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00600" y="51814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48769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d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876920" y="41148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48769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inprintr(color) from inprintr(d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952880" y="449568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48769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order Print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ection demonstrates the recursive, in-order tree print rout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76920" y="41148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48769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2895120" y="1752480"/>
            <a:ext cx="304812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inprintr(NULL) from inprintr(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76920" y="44956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48769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2895120" y="1752480"/>
            <a:ext cx="304812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876920" y="41148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48769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2895120" y="1752480"/>
            <a:ext cx="304812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172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172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248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315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48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15200" y="114300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inprintr(color) from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48006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4876920"/>
            <a:ext cx="1219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2895120" y="1752480"/>
            <a:ext cx="304812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inprintr(NULL) from inprintr(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952880" y="518148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4876920"/>
            <a:ext cx="1219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2895120" y="1752480"/>
            <a:ext cx="304812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NULL) from inprintr(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952880" y="41148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4876920"/>
            <a:ext cx="1219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2895120" y="1752480"/>
            <a:ext cx="304812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172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72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248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315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248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315200" y="114300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inprintr(color) from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648320" y="556272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0" y="4876920"/>
            <a:ext cx="1219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2895120" y="1752480"/>
            <a:ext cx="304812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00600" y="51814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inprintr(dog) from inprintr(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876920" y="48006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0" y="4876920"/>
            <a:ext cx="1219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876920" y="441972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inprintr(move) from inprintr(d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52880" y="518148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0" y="4876920"/>
            <a:ext cx="1219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 inprintr(move) from inprintr(d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952880" y="41148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4876920"/>
            <a:ext cx="1219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4266720" y="1905120"/>
            <a:ext cx="17528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609480"/>
            <a:ext cx="7467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() - create bina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main(int argc, char* argv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s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stream file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in.open("trees.txt");   // file to read test string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load data from the file into th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in &gt;&gt; s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filein.eof()) break;   // real end of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add_value(s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ut file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in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in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 inprintr(NULL) from inprintr(mo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952880" y="449568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4876920"/>
            <a:ext cx="1219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4266720" y="1905120"/>
            <a:ext cx="17528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NULL) from inprintr(mo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800600" y="41148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0" y="4876920"/>
            <a:ext cx="1219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4266720" y="1905120"/>
            <a:ext cx="17528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172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172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248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315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248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315200" y="114300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 inprintr(move) from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76920" y="48006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0" y="4876920"/>
            <a:ext cx="1219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4266720" y="1905120"/>
            <a:ext cx="17528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876920" y="44956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 inprintr(null) from inprintr(mo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952880" y="518148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0" y="4876920"/>
            <a:ext cx="1219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4266720" y="1905120"/>
            <a:ext cx="17528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NULL) from inprintr(mo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800600" y="41148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4876920"/>
            <a:ext cx="1219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4266720" y="1905120"/>
            <a:ext cx="17528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172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172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248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315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248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315200" y="114300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 inprintr(move) from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648320" y="556272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0" y="4876920"/>
            <a:ext cx="1219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4266720" y="1905120"/>
            <a:ext cx="17528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876920" y="510552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inprintr(dog) from inprintr(mo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648320" y="556272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0" y="4876920"/>
            <a:ext cx="1219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952880" y="518148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inprintr(cab) from inprintr(d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724280" y="541008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0" y="4876920"/>
            <a:ext cx="1219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724280" y="556272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/>
          <p:nvPr/>
        </p:nvSpPr>
        <p:spPr>
          <a:xfrm>
            <a:off x="5562720" y="2895480"/>
            <a:ext cx="33526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inorder tree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oo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inprint() from inprintr(c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181480" y="464832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0" y="4876920"/>
            <a:ext cx="1219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029200" y="49528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ished the inorder printing of th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now returns to T.inprint() which just returns back to main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315200" y="37339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3200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 to creat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tree after call to inprint() in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8195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32004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2004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862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267080"/>
            <a:ext cx="6098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267080"/>
            <a:ext cx="6094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8862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267080"/>
            <a:ext cx="6098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267080"/>
            <a:ext cx="6094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480060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4800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181480"/>
            <a:ext cx="6094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181480"/>
            <a:ext cx="6094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4876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4876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5257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57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62120" y="3352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3352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286000" y="45720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45720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 Insertion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ection demonstrates the recursive, tree node insertion rout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762120" y="560520"/>
            <a:ext cx="7467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() - create bina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main(int argc, char* argv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s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stream file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in.open("trees.txt");   // file to read test string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load data from the file into th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in &gt;&gt; s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filein.eof()) break;   // real end of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add_value(s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ut file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in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in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"/>
          <p:cNvSpPr/>
          <p:nvPr/>
        </p:nvSpPr>
        <p:spPr>
          <a:xfrm>
            <a:off x="7315200" y="37339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19920" y="3200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 to creat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ironment before first call in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838080" y="1143000"/>
            <a:ext cx="38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T.add_value (cab) from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876920" y="3657600"/>
            <a:ext cx="426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e::add_value(string st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str.length(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 new Err("add_value: bad param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(add_valuer(root,str,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838080" y="1143000"/>
            <a:ext cx="38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T.add_value (cab) from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876920" y="3657600"/>
            <a:ext cx="426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e::add_value(string st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str.length(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 new Err("add_value: bad param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(add_valuer(root,str,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838080" y="1143000"/>
            <a:ext cx="38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495680" y="52578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cab,0) from T.add_value(c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838080" y="1143000"/>
            <a:ext cx="38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114800" y="31240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048120" y="1143000"/>
            <a:ext cx="1066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4800" y="1219320"/>
            <a:ext cx="762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H="1">
            <a:off x="533160" y="1371600"/>
            <a:ext cx="34290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cab,0) from T.add_value(c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838080" y="1143000"/>
            <a:ext cx="38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191120" y="34290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048120" y="1143000"/>
            <a:ext cx="1066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114800" y="1219320"/>
            <a:ext cx="762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533160" y="1371600"/>
            <a:ext cx="34290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2057400" y="21337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cab,0) from T.add_value(c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838080" y="1143000"/>
            <a:ext cx="38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267080" y="38862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048120" y="1143000"/>
            <a:ext cx="1066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114800" y="1219320"/>
            <a:ext cx="762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533160" y="1371600"/>
            <a:ext cx="34290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2057400" y="21337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cab,0) from T.add_value(c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838080" y="1143000"/>
            <a:ext cx="38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267080" y="41148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048120" y="1143000"/>
            <a:ext cx="1066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114800" y="1219320"/>
            <a:ext cx="762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H="1">
            <a:off x="533160" y="1371600"/>
            <a:ext cx="34290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H="1">
            <a:off x="2057400" y="21337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cab,0) from T.add_value(c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267080" y="43434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048120" y="1143000"/>
            <a:ext cx="1066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&amp; 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ing str int count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4114800" y="1219320"/>
            <a:ext cx="762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H="1">
            <a:off x="533160" y="1371600"/>
            <a:ext cx="34290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2057400" y="21337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H="1">
            <a:off x="1600200" y="1295280"/>
            <a:ext cx="2743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562720" y="2895480"/>
            <a:ext cx="33526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inorder tree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oo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() from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464832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T.add_value(cab) from add_valuer(root,cab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495680" y="41148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e::add_value(string st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str.length(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 new Err("add_value: bad param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(add_valuer(root,str,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038480" y="59436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57150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bagel,0) from T.add_value(bag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114800" y="31240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048120" y="1143000"/>
            <a:ext cx="1066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&amp; 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ing str int count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114800" y="1219320"/>
            <a:ext cx="762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H="1">
            <a:off x="533160" y="1371600"/>
            <a:ext cx="34290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1600200" y="1295280"/>
            <a:ext cx="2743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bagel,0) from T.add_value(bag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191120" y="510552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048120" y="1143000"/>
            <a:ext cx="10666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114800" y="1219320"/>
            <a:ext cx="76212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H="1">
            <a:off x="533160" y="1371600"/>
            <a:ext cx="34290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1600200" y="1295280"/>
            <a:ext cx="2743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add_valuer (root,bagel,0) from add_valuer(c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267080" y="624852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048120" y="1143000"/>
            <a:ext cx="10666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4114800" y="1219320"/>
            <a:ext cx="76212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H="1">
            <a:off x="533160" y="1371600"/>
            <a:ext cx="34290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H="1">
            <a:off x="1600200" y="1295280"/>
            <a:ext cx="2743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"/>
          <p:cNvSpPr/>
          <p:nvPr/>
        </p:nvSpPr>
        <p:spPr>
          <a:xfrm>
            <a:off x="53352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bagel,1) from add_valuer(root,cab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114800" y="31240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048120" y="1143000"/>
            <a:ext cx="10666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114800" y="1219320"/>
            <a:ext cx="762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       ba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>
            <a:off x="1447560" y="1371600"/>
            <a:ext cx="2514600" cy="190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"/>
          <p:cNvSpPr/>
          <p:nvPr/>
        </p:nvSpPr>
        <p:spPr>
          <a:xfrm>
            <a:off x="53352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bagel,1) from add_valuer(root,cab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33526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048120" y="1143000"/>
            <a:ext cx="10666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114800" y="1219320"/>
            <a:ext cx="762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       ba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0" y="3809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09480" y="4191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0" y="4191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H="1">
            <a:off x="1142640" y="2133720"/>
            <a:ext cx="3048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1447560" y="1371600"/>
            <a:ext cx="2514600" cy="190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"/>
          <p:cNvSpPr/>
          <p:nvPr/>
        </p:nvSpPr>
        <p:spPr>
          <a:xfrm>
            <a:off x="53352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bagel,1) from add_valuer(root,cab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048120" y="1143000"/>
            <a:ext cx="10666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114800" y="1219320"/>
            <a:ext cx="762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       ba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0" y="3809880"/>
            <a:ext cx="12193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09480" y="4191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4191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1142640" y="2133720"/>
            <a:ext cx="3048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0" y="3809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H="1">
            <a:off x="1447560" y="1371600"/>
            <a:ext cx="2514600" cy="190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53352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bagel,1) from add_valuer(root,cab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267080" y="41148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048120" y="1143000"/>
            <a:ext cx="10666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114800" y="1219320"/>
            <a:ext cx="762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       ba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3809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09480" y="4191120"/>
            <a:ext cx="6098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0" y="419112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flipH="1">
            <a:off x="1142640" y="2133720"/>
            <a:ext cx="3048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0" y="3809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H="1">
            <a:off x="1447560" y="1371600"/>
            <a:ext cx="2514600" cy="190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"/>
          <p:cNvSpPr/>
          <p:nvPr/>
        </p:nvSpPr>
        <p:spPr>
          <a:xfrm>
            <a:off x="53352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bagel,1) from add_valuer(root,cab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267080" y="43434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048120" y="1143000"/>
            <a:ext cx="10666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&amp; 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ing str int count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114800" y="1219320"/>
            <a:ext cx="762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       ba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0" y="3809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609480" y="4191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0" y="4191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H="1">
            <a:off x="1142640" y="2133720"/>
            <a:ext cx="3048120" cy="1828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3809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H="1">
            <a:off x="1447560" y="1371600"/>
            <a:ext cx="2514600" cy="190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456840" y="32767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T.add_value(cab) from add_valuer(root,bagel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4495680" y="41148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e::add_value(string st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str.length(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 new Err("add_value: bad param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(add_valuer(root,str,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038480" y="59436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114800" y="57150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3809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609480" y="4191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0" y="4191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0" y="3809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H="1">
            <a:off x="456840" y="32767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cab) from inpr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1148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inprintr(bag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44956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bag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41148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447920" y="1523880"/>
            <a:ext cx="304776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inprintr(NULL) from inprintr(bag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52880" y="441972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447920" y="1752480"/>
            <a:ext cx="30477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10:31:34Z</dcterms:created>
  <dc:creator>kent archie</dc:creator>
  <dc:description/>
  <dc:language>en-US</dc:language>
  <cp:lastModifiedBy>kent archie</cp:lastModifiedBy>
  <dcterms:modified xsi:type="dcterms:W3CDTF">2003-10-14T20:47:27Z</dcterms:modified>
  <cp:revision>22</cp:revision>
  <dc:subject/>
  <dc:title>No Slide Title</dc:title>
</cp:coreProperties>
</file>