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127-E8F1-442A-9B53-521795F5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A18-58A0-42C5-811E-F16CD92F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E0B-7611-414A-A3FF-092C6452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2C4-CF87-4EEA-834C-95FFB912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380-FDC0-429F-AAED-71C5FB26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1EE-C592-4362-8771-BF39FD59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B23-71DD-416A-8EFE-A8D51BD0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E14-3C3B-4301-8BBE-D4A03005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B39-AE74-4CEA-908D-F6454223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068-12EE-459F-87E1-77BF5AB9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F5C-0067-4B76-BC42-D76715C6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74C-DFAD-428D-8A09-B9F00268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2B49-54F9-408F-9AB7-A21EEC8CA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7621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S 327 Advanced C+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209680"/>
            <a:ext cx="5334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uble Linked 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 Af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62D-C924-45BE-BBA4-2CB3F63DD5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45720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51240" y="1476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de after  the target must point back to the new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42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4" idx="1"/>
            <a:endCxn id="529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0" idx="2"/>
            <a:endCxn id="536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545" name=""/>
          <p:cNvCxnSpPr/>
          <p:nvPr/>
        </p:nvCxnSpPr>
        <p:spPr>
          <a:xfrm flipH="1" flipV="1">
            <a:off x="1750680" y="4338360"/>
            <a:ext cx="2057760" cy="1257840"/>
          </a:xfrm>
          <a:prstGeom prst="curvedConnector5">
            <a:avLst>
              <a:gd name="adj1" fmla="val -10411"/>
              <a:gd name="adj2" fmla="val 49985"/>
              <a:gd name="adj3" fmla="val -10411"/>
            </a:avLst>
          </a:prstGeom>
          <a:ln w="28440">
            <a:solidFill>
              <a:srgbClr val="00ff00"/>
            </a:solidFill>
            <a:prstDash val="dash"/>
            <a:miter/>
            <a:tailEnd len="med" type="triangle" w="med"/>
          </a:ln>
        </p:spPr>
      </p:cxnSp>
      <p:sp>
        <p:nvSpPr>
          <p:cNvPr id="546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549" name=""/>
          <p:cNvCxnSpPr>
            <a:stCxn id="531" idx="3"/>
            <a:endCxn id="523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550" name=""/>
          <p:cNvCxnSpPr>
            <a:stCxn id="510" idx="3"/>
            <a:endCxn id="538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" name=""/>
          <p:cNvCxnSpPr>
            <a:stCxn id="551" idx="2"/>
            <a:endCxn id="532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558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4" idx="1"/>
            <a:endCxn id="558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61" idx="3"/>
            <a:endCxn id="529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59" idx="1"/>
            <a:endCxn id="535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"/>
          <p:cNvCxnSpPr>
            <a:stCxn id="539" idx="2"/>
            <a:endCxn id="558" idx="3"/>
          </p:cNvCxnSpPr>
          <p:nvPr/>
        </p:nvCxnSpPr>
        <p:spPr>
          <a:xfrm rot="5400000">
            <a:off x="2436840" y="4872600"/>
            <a:ext cx="243360" cy="1585080"/>
          </a:xfrm>
          <a:prstGeom prst="curvedConnector2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F58-71C8-4415-80ED-2E8F1FFB94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86200" y="53341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351240" y="1476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de before the new node must point 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6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"/>
          <p:cNvCxnSpPr>
            <a:stCxn id="588" idx="1"/>
            <a:endCxn id="593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"/>
          <p:cNvCxnSpPr>
            <a:stCxn id="594" idx="2"/>
            <a:endCxn id="600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609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12" name=""/>
          <p:cNvCxnSpPr>
            <a:stCxn id="595" idx="3"/>
            <a:endCxn id="587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13" name=""/>
          <p:cNvCxnSpPr>
            <a:stCxn id="574" idx="3"/>
            <a:endCxn id="602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4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14" idx="2"/>
            <a:endCxn id="596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621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8" name=""/>
          <p:cNvCxnSpPr>
            <a:stCxn id="627" idx="1"/>
            <a:endCxn id="621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24" idx="3"/>
            <a:endCxn id="593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stCxn id="622" idx="1"/>
            <a:endCxn id="599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2" name=""/>
          <p:cNvCxnSpPr>
            <a:stCxn id="603" idx="2"/>
            <a:endCxn id="621" idx="3"/>
          </p:cNvCxnSpPr>
          <p:nvPr/>
        </p:nvCxnSpPr>
        <p:spPr>
          <a:xfrm rot="5400000">
            <a:off x="2436840" y="4872600"/>
            <a:ext cx="243360" cy="1585080"/>
          </a:xfrm>
          <a:prstGeom prst="curvedConnector2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33" name=""/>
          <p:cNvCxnSpPr>
            <a:stCxn id="594" idx="2"/>
            <a:endCxn id="629" idx="1"/>
          </p:cNvCxnSpPr>
          <p:nvPr/>
        </p:nvCxnSpPr>
        <p:spPr>
          <a:xfrm rot="5400000">
            <a:off x="158040" y="5336640"/>
            <a:ext cx="748440" cy="151560"/>
          </a:xfrm>
          <a:prstGeom prst="curvedConnector5">
            <a:avLst>
              <a:gd name="adj1" fmla="val 33734"/>
              <a:gd name="adj2" fmla="val 125714"/>
              <a:gd name="adj3" fmla="val 33734"/>
            </a:avLst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7E8-70C8-498B-9E7E-43032751AA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86200" y="56386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9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70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1" name=""/>
          <p:cNvCxnSpPr>
            <a:stCxn id="652" idx="1"/>
            <a:endCxn id="657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2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75" name=""/>
          <p:cNvCxnSpPr>
            <a:stCxn id="659" idx="3"/>
            <a:endCxn id="651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76" name=""/>
          <p:cNvCxnSpPr>
            <a:stCxn id="638" idx="3"/>
            <a:endCxn id="666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77" idx="2"/>
            <a:endCxn id="660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1" name=""/>
          <p:cNvCxnSpPr>
            <a:stCxn id="690" idx="1"/>
            <a:endCxn id="684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87" idx="3"/>
            <a:endCxn id="657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94" name=""/>
          <p:cNvCxnSpPr>
            <a:stCxn id="685" idx="1"/>
            <a:endCxn id="663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5" name=""/>
          <p:cNvCxnSpPr>
            <a:stCxn id="667" idx="2"/>
            <a:endCxn id="684" idx="3"/>
          </p:cNvCxnSpPr>
          <p:nvPr/>
        </p:nvCxnSpPr>
        <p:spPr>
          <a:xfrm rot="5400000">
            <a:off x="2436840" y="4872600"/>
            <a:ext cx="243360" cy="1585080"/>
          </a:xfrm>
          <a:prstGeom prst="curvedConnector2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696" name=""/>
          <p:cNvCxnSpPr>
            <a:stCxn id="658" idx="2"/>
            <a:endCxn id="692" idx="1"/>
          </p:cNvCxnSpPr>
          <p:nvPr/>
        </p:nvCxnSpPr>
        <p:spPr>
          <a:xfrm rot="5400000">
            <a:off x="158040" y="5336640"/>
            <a:ext cx="748440" cy="151560"/>
          </a:xfrm>
          <a:prstGeom prst="curvedConnector5">
            <a:avLst>
              <a:gd name="adj1" fmla="val 33734"/>
              <a:gd name="adj2" fmla="val 125714"/>
              <a:gd name="adj3" fmla="val 3373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F846-B1A3-4543-9961-23BFD8E8F8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dding R, the list looks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13" idx="1"/>
            <a:endCxn id="718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3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736" name=""/>
          <p:cNvCxnSpPr>
            <a:stCxn id="720" idx="3"/>
            <a:endCxn id="712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737" name=""/>
          <p:cNvCxnSpPr>
            <a:stCxn id="699" idx="3"/>
            <a:endCxn id="727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38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41" idx="3"/>
            <a:endCxn id="718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745" name=""/>
          <p:cNvCxnSpPr>
            <a:stCxn id="739" idx="1"/>
            <a:endCxn id="724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>
            <a:stCxn id="728" idx="2"/>
            <a:endCxn id="738" idx="3"/>
          </p:cNvCxnSpPr>
          <p:nvPr/>
        </p:nvCxnSpPr>
        <p:spPr>
          <a:xfrm rot="5400000">
            <a:off x="2436840" y="4872600"/>
            <a:ext cx="243360" cy="1585080"/>
          </a:xfrm>
          <a:prstGeom prst="curvedConnector2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747" name=""/>
          <p:cNvCxnSpPr>
            <a:stCxn id="719" idx="2"/>
            <a:endCxn id="743" idx="1"/>
          </p:cNvCxnSpPr>
          <p:nvPr/>
        </p:nvCxnSpPr>
        <p:spPr>
          <a:xfrm rot="5400000">
            <a:off x="158040" y="5336640"/>
            <a:ext cx="748440" cy="151560"/>
          </a:xfrm>
          <a:prstGeom prst="curvedConnector5">
            <a:avLst>
              <a:gd name="adj1" fmla="val 33734"/>
              <a:gd name="adj2" fmla="val 125714"/>
              <a:gd name="adj3" fmla="val 3373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8DC-38F6-47FD-85B5-AC0A176A7C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add the letter R after the let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1219320"/>
            <a:ext cx="5029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ode * listfron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tolist(listfront,”PEAL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 addafter(listfront,’R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addafter work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addafter fail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33520"/>
            <a:ext cx="144756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8380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4300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33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5335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7920" y="8748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7920" y="11793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828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2860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828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0384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4956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4956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006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52578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2578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480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1752480" y="761760"/>
            <a:ext cx="534240" cy="1067400"/>
          </a:xfrm>
          <a:prstGeom prst="curvedConnector5">
            <a:avLst>
              <a:gd name="adj1" fmla="val 140121"/>
              <a:gd name="adj2" fmla="val 50000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 rot="16200000">
            <a:off x="1446480" y="243792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0" idx="1"/>
            <a:endCxn id="65" idx="3"/>
          </p:cNvCxnSpPr>
          <p:nvPr/>
        </p:nvCxnSpPr>
        <p:spPr>
          <a:xfrm flipV="1" rot="10800000">
            <a:off x="1766160" y="4000320"/>
            <a:ext cx="658080" cy="267120"/>
          </a:xfrm>
          <a:prstGeom prst="curvedConnector5">
            <a:avLst>
              <a:gd name="adj1" fmla="val 49972"/>
              <a:gd name="adj2" fmla="val 49932"/>
              <a:gd name="adj3" fmla="val 4997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6" idx="2"/>
            <a:endCxn id="72" idx="1"/>
          </p:cNvCxnSpPr>
          <p:nvPr/>
        </p:nvCxnSpPr>
        <p:spPr>
          <a:xfrm flipH="1" rot="16200000">
            <a:off x="1199160" y="4452840"/>
            <a:ext cx="48168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H="1" flipV="1">
            <a:off x="1752120" y="4342680"/>
            <a:ext cx="2057760" cy="1258200"/>
          </a:xfrm>
          <a:prstGeom prst="curvedConnector5">
            <a:avLst>
              <a:gd name="adj1" fmla="val -10411"/>
              <a:gd name="adj2" fmla="val 50000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590920" y="57913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22860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61" idx="3"/>
            <a:endCxn id="53" idx="3"/>
          </p:cNvCxnSpPr>
          <p:nvPr/>
        </p:nvCxnSpPr>
        <p:spPr>
          <a:xfrm flipH="1" flipV="1">
            <a:off x="2300040" y="2057040"/>
            <a:ext cx="1676880" cy="1944000"/>
          </a:xfrm>
          <a:prstGeom prst="curvedConnector5">
            <a:avLst>
              <a:gd name="adj1" fmla="val -12776"/>
              <a:gd name="adj2" fmla="val 49990"/>
              <a:gd name="adj3" fmla="val -12776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7" idx="3"/>
            <a:endCxn id="59" idx="1"/>
          </p:cNvCxnSpPr>
          <p:nvPr/>
        </p:nvCxnSpPr>
        <p:spPr>
          <a:xfrm flipV="1">
            <a:off x="1766880" y="3504960"/>
            <a:ext cx="658080" cy="1257840"/>
          </a:xfrm>
          <a:prstGeom prst="curvedConnector5">
            <a:avLst>
              <a:gd name="adj1" fmla="val 49972"/>
              <a:gd name="adj2" fmla="val 49985"/>
              <a:gd name="adj3" fmla="val 49972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46" idx="3"/>
            <a:endCxn id="74" idx="1"/>
          </p:cNvCxnSpPr>
          <p:nvPr/>
        </p:nvCxnSpPr>
        <p:spPr>
          <a:xfrm>
            <a:off x="1766520" y="990720"/>
            <a:ext cx="748440" cy="4039200"/>
          </a:xfrm>
          <a:prstGeom prst="curvedConnector5">
            <a:avLst>
              <a:gd name="adj1" fmla="val 49037"/>
              <a:gd name="adj2" fmla="val 49995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80D-CA4A-4BBF-BA37-547A8E06E5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114800" y="68580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2860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52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144756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8380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14300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533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5335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7920" y="8748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7920" y="11793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828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2860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828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2767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40384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4956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44956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48006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52578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52578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480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1752480" y="761760"/>
            <a:ext cx="534240" cy="1067400"/>
          </a:xfrm>
          <a:prstGeom prst="curvedConnector5">
            <a:avLst>
              <a:gd name="adj1" fmla="val 140121"/>
              <a:gd name="adj2" fmla="val 50000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 flipH="1" rot="16200000">
            <a:off x="1446480" y="243792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5" idx="1"/>
            <a:endCxn id="110" idx="3"/>
          </p:cNvCxnSpPr>
          <p:nvPr/>
        </p:nvCxnSpPr>
        <p:spPr>
          <a:xfrm flipV="1" rot="10800000">
            <a:off x="1766160" y="4000320"/>
            <a:ext cx="658080" cy="267120"/>
          </a:xfrm>
          <a:prstGeom prst="curvedConnector5">
            <a:avLst>
              <a:gd name="adj1" fmla="val 49972"/>
              <a:gd name="adj2" fmla="val 49932"/>
              <a:gd name="adj3" fmla="val 4997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1" idx="2"/>
            <a:endCxn id="117" idx="1"/>
          </p:cNvCxnSpPr>
          <p:nvPr/>
        </p:nvCxnSpPr>
        <p:spPr>
          <a:xfrm flipH="1" rot="16200000">
            <a:off x="1199160" y="4452840"/>
            <a:ext cx="48168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/>
          <p:nvPr/>
        </p:nvCxnSpPr>
        <p:spPr>
          <a:xfrm flipH="1" flipV="1">
            <a:off x="1752120" y="4342680"/>
            <a:ext cx="2057760" cy="1258200"/>
          </a:xfrm>
          <a:prstGeom prst="curvedConnector5">
            <a:avLst>
              <a:gd name="adj1" fmla="val -10411"/>
              <a:gd name="adj2" fmla="val 50000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590920" y="57913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22860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06" idx="3"/>
            <a:endCxn id="98" idx="3"/>
          </p:cNvCxnSpPr>
          <p:nvPr/>
        </p:nvCxnSpPr>
        <p:spPr>
          <a:xfrm flipH="1" flipV="1">
            <a:off x="2300040" y="2057040"/>
            <a:ext cx="1676880" cy="1944000"/>
          </a:xfrm>
          <a:prstGeom prst="curvedConnector5">
            <a:avLst>
              <a:gd name="adj1" fmla="val -12776"/>
              <a:gd name="adj2" fmla="val 49990"/>
              <a:gd name="adj3" fmla="val -12776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2" idx="3"/>
            <a:endCxn id="104" idx="1"/>
          </p:cNvCxnSpPr>
          <p:nvPr/>
        </p:nvCxnSpPr>
        <p:spPr>
          <a:xfrm flipV="1">
            <a:off x="1766880" y="3504960"/>
            <a:ext cx="658080" cy="1257840"/>
          </a:xfrm>
          <a:prstGeom prst="curvedConnector5">
            <a:avLst>
              <a:gd name="adj1" fmla="val 49972"/>
              <a:gd name="adj2" fmla="val 49985"/>
              <a:gd name="adj3" fmla="val 49972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91" idx="3"/>
            <a:endCxn id="119" idx="1"/>
          </p:cNvCxnSpPr>
          <p:nvPr/>
        </p:nvCxnSpPr>
        <p:spPr>
          <a:xfrm>
            <a:off x="1766520" y="990720"/>
            <a:ext cx="748440" cy="4039200"/>
          </a:xfrm>
          <a:prstGeom prst="curvedConnector5">
            <a:avLst>
              <a:gd name="adj1" fmla="val 49037"/>
              <a:gd name="adj2" fmla="val 49995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2514600" y="38088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98760" y="381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99680" y="6362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6400800"/>
            <a:ext cx="83808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81840" y="6286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632448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2" idx="2"/>
            <a:endCxn id="113" idx="1"/>
          </p:cNvCxnSpPr>
          <p:nvPr/>
        </p:nvCxnSpPr>
        <p:spPr>
          <a:xfrm rot="5400000">
            <a:off x="-127080" y="120708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DB6-DAFF-4D53-8D4E-8635D60AA8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113360" y="68580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2514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124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160" y="152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3120" y="53352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3120" y="8380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3120" y="11430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1560" y="533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3120" y="5335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6120" y="8748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6120" y="11793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0320" y="182880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032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44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8892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612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032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6840" y="32767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684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98960" y="37339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544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264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684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7160" y="40384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7160" y="44956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88920" y="44956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5760" y="4038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2960" y="4419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160" y="4419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4560" y="48006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4560" y="52578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6320" y="52578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3160" y="4800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0360" y="5181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4560" y="5181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/>
          <p:nvPr/>
        </p:nvCxnSpPr>
        <p:spPr>
          <a:xfrm>
            <a:off x="1751040" y="761760"/>
            <a:ext cx="534240" cy="1067400"/>
          </a:xfrm>
          <a:prstGeom prst="curvedConnector5">
            <a:avLst>
              <a:gd name="adj1" fmla="val 140121"/>
              <a:gd name="adj2" fmla="val 50000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7" name=""/>
          <p:cNvCxnSpPr/>
          <p:nvPr/>
        </p:nvCxnSpPr>
        <p:spPr>
          <a:xfrm flipH="1" rot="16200000">
            <a:off x="1446120" y="243792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59" idx="1"/>
            <a:endCxn id="164" idx="3"/>
          </p:cNvCxnSpPr>
          <p:nvPr/>
        </p:nvCxnSpPr>
        <p:spPr>
          <a:xfrm flipV="1" rot="10800000">
            <a:off x="1764720" y="400032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5" idx="2"/>
            <a:endCxn id="171" idx="1"/>
          </p:cNvCxnSpPr>
          <p:nvPr/>
        </p:nvCxnSpPr>
        <p:spPr>
          <a:xfrm flipH="1" rot="16200000">
            <a:off x="1197720" y="4452840"/>
            <a:ext cx="48168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H="1" flipV="1">
            <a:off x="1750680" y="4342680"/>
            <a:ext cx="2057760" cy="1258200"/>
          </a:xfrm>
          <a:prstGeom prst="curvedConnector5">
            <a:avLst>
              <a:gd name="adj1" fmla="val -10411"/>
              <a:gd name="adj2" fmla="val 50000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2589120" y="57913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4560" y="22860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0" idx="3"/>
            <a:endCxn id="152" idx="3"/>
          </p:cNvCxnSpPr>
          <p:nvPr/>
        </p:nvCxnSpPr>
        <p:spPr>
          <a:xfrm flipH="1" flipV="1">
            <a:off x="2297880" y="20570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66" idx="3"/>
            <a:endCxn id="158" idx="1"/>
          </p:cNvCxnSpPr>
          <p:nvPr/>
        </p:nvCxnSpPr>
        <p:spPr>
          <a:xfrm flipV="1">
            <a:off x="1765080" y="3504960"/>
            <a:ext cx="657720" cy="125784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45" idx="3"/>
            <a:endCxn id="173" idx="1"/>
          </p:cNvCxnSpPr>
          <p:nvPr/>
        </p:nvCxnSpPr>
        <p:spPr>
          <a:xfrm>
            <a:off x="1765080" y="990720"/>
            <a:ext cx="748440" cy="4039200"/>
          </a:xfrm>
          <a:prstGeom prst="curvedConnector5">
            <a:avLst>
              <a:gd name="adj1" fmla="val 49037"/>
              <a:gd name="adj2" fmla="val 49995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513160" y="38088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96960" y="381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7880" y="6362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5120" y="640080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80400" y="6286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6560" y="632448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6" idx="2"/>
            <a:endCxn id="167" idx="1"/>
          </p:cNvCxnSpPr>
          <p:nvPr/>
        </p:nvCxnSpPr>
        <p:spPr>
          <a:xfrm rot="5400000">
            <a:off x="-128520" y="120708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5E6-A9A3-4A7F-866D-2505E19A6B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113360" y="68580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8195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124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new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160" y="152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3120" y="53352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3120" y="8380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3120" y="11430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1560" y="533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3120" y="5335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6120" y="87480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6120" y="11793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0320" y="182880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032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440" y="2286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8892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612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032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6840" y="32767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6840" y="37339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98960" y="37339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264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684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7160" y="40384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7160" y="44956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88920" y="44956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5760" y="4038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2960" y="4419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7160" y="4419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4560" y="48006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4560" y="52578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6320" y="52578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3160" y="4800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0360" y="5181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4560" y="5181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/>
          <p:nvPr/>
        </p:nvCxnSpPr>
        <p:spPr>
          <a:xfrm>
            <a:off x="1751040" y="761760"/>
            <a:ext cx="534240" cy="1067400"/>
          </a:xfrm>
          <a:prstGeom prst="curvedConnector5">
            <a:avLst>
              <a:gd name="adj1" fmla="val 140121"/>
              <a:gd name="adj2" fmla="val 50000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1" name=""/>
          <p:cNvCxnSpPr/>
          <p:nvPr/>
        </p:nvCxnSpPr>
        <p:spPr>
          <a:xfrm flipH="1" rot="16200000">
            <a:off x="1446120" y="243792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13" idx="1"/>
            <a:endCxn id="218" idx="3"/>
          </p:cNvCxnSpPr>
          <p:nvPr/>
        </p:nvCxnSpPr>
        <p:spPr>
          <a:xfrm flipV="1" rot="10800000">
            <a:off x="1764720" y="400032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19" idx="2"/>
            <a:endCxn id="225" idx="1"/>
          </p:cNvCxnSpPr>
          <p:nvPr/>
        </p:nvCxnSpPr>
        <p:spPr>
          <a:xfrm flipH="1" rot="16200000">
            <a:off x="1197720" y="4452840"/>
            <a:ext cx="48168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/>
          <p:nvPr/>
        </p:nvCxnSpPr>
        <p:spPr>
          <a:xfrm flipH="1" flipV="1">
            <a:off x="1750680" y="4342680"/>
            <a:ext cx="2057760" cy="1258200"/>
          </a:xfrm>
          <a:prstGeom prst="curvedConnector5">
            <a:avLst>
              <a:gd name="adj1" fmla="val -10411"/>
              <a:gd name="adj2" fmla="val 50000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2589120" y="57913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4560" y="22860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4" idx="3"/>
            <a:endCxn id="206" idx="3"/>
          </p:cNvCxnSpPr>
          <p:nvPr/>
        </p:nvCxnSpPr>
        <p:spPr>
          <a:xfrm flipH="1" flipV="1">
            <a:off x="2297880" y="20570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12" idx="1"/>
          </p:cNvCxnSpPr>
          <p:nvPr/>
        </p:nvCxnSpPr>
        <p:spPr>
          <a:xfrm flipV="1">
            <a:off x="1765080" y="3504960"/>
            <a:ext cx="657720" cy="1257840"/>
          </a:xfrm>
          <a:prstGeom prst="curvedConnector5">
            <a:avLst>
              <a:gd name="adj1" fmla="val 50000"/>
              <a:gd name="adj2" fmla="val 49985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199" idx="3"/>
            <a:endCxn id="227" idx="1"/>
          </p:cNvCxnSpPr>
          <p:nvPr/>
        </p:nvCxnSpPr>
        <p:spPr>
          <a:xfrm>
            <a:off x="1765080" y="990720"/>
            <a:ext cx="748440" cy="4039200"/>
          </a:xfrm>
          <a:prstGeom prst="curvedConnector5">
            <a:avLst>
              <a:gd name="adj1" fmla="val 49037"/>
              <a:gd name="adj2" fmla="val 49995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2513160" y="380880"/>
            <a:ext cx="838080" cy="2286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96960" y="381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97880" y="6362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5120" y="640080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80400" y="6286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6560" y="6324480"/>
            <a:ext cx="83808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0" idx="2"/>
            <a:endCxn id="221" idx="1"/>
          </p:cNvCxnSpPr>
          <p:nvPr/>
        </p:nvCxnSpPr>
        <p:spPr>
          <a:xfrm rot="5400000">
            <a:off x="-128520" y="120708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228600" y="5562720"/>
            <a:ext cx="1523880" cy="457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6019920"/>
            <a:ext cx="762120" cy="5331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6019920"/>
            <a:ext cx="761760" cy="5331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59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943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3760" y="6491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11320" y="6529320"/>
            <a:ext cx="83844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3" idx="1"/>
            <a:endCxn id="247" idx="3"/>
          </p:cNvCxnSpPr>
          <p:nvPr/>
        </p:nvCxnSpPr>
        <p:spPr>
          <a:xfrm rot="10800000">
            <a:off x="1766160" y="579060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4572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F64-2B2D-4445-8335-B6EB49ADD1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33526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new nodes prev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2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74" idx="1"/>
            <a:endCxn id="279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80" idx="2"/>
            <a:endCxn id="286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/>
          <p:nvPr/>
        </p:nvCxnSpPr>
        <p:spPr>
          <a:xfrm flipH="1" flipV="1">
            <a:off x="1750680" y="4338360"/>
            <a:ext cx="2057760" cy="1257840"/>
          </a:xfrm>
          <a:prstGeom prst="curvedConnector5">
            <a:avLst>
              <a:gd name="adj1" fmla="val -10411"/>
              <a:gd name="adj2" fmla="val 49985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1" idx="3"/>
            <a:endCxn id="273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60" idx="3"/>
            <a:endCxn id="288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1" idx="2"/>
            <a:endCxn id="282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4" idx="1"/>
            <a:endCxn id="308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1" idx="3"/>
            <a:endCxn id="279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3FA-ADEB-4E2B-9D17-CA8BAAF28F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ptr-&gt;get_next(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value from next field of lpt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3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4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36" idx="1"/>
            <a:endCxn id="341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42" idx="2"/>
            <a:endCxn id="348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57" name=""/>
          <p:cNvCxnSpPr/>
          <p:nvPr/>
        </p:nvCxnSpPr>
        <p:spPr>
          <a:xfrm flipH="1" flipV="1">
            <a:off x="1750680" y="4338360"/>
            <a:ext cx="2057760" cy="1257840"/>
          </a:xfrm>
          <a:prstGeom prst="curvedConnector5">
            <a:avLst>
              <a:gd name="adj1" fmla="val -10411"/>
              <a:gd name="adj2" fmla="val 49985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3" idx="3"/>
            <a:endCxn id="335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22" idx="3"/>
            <a:endCxn id="350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3" idx="2"/>
            <a:endCxn id="344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6" idx="1"/>
            <a:endCxn id="370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3" idx="3"/>
            <a:endCxn id="341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DB4-DDD7-4285-B159-6370913BB9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p-&gt;set_n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ptr-&gt;get_next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hat to new nodes next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16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98" idx="1"/>
            <a:endCxn id="403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04" idx="2"/>
            <a:endCxn id="410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419" name=""/>
          <p:cNvCxnSpPr/>
          <p:nvPr/>
        </p:nvCxnSpPr>
        <p:spPr>
          <a:xfrm flipH="1" flipV="1">
            <a:off x="1750680" y="4338360"/>
            <a:ext cx="2057760" cy="1257840"/>
          </a:xfrm>
          <a:prstGeom prst="curvedConnector5">
            <a:avLst>
              <a:gd name="adj1" fmla="val -10411"/>
              <a:gd name="adj2" fmla="val 49985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23" name=""/>
          <p:cNvCxnSpPr>
            <a:stCxn id="405" idx="3"/>
            <a:endCxn id="397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384" idx="3"/>
            <a:endCxn id="412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25" idx="2"/>
            <a:endCxn id="406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8" idx="1"/>
            <a:endCxn id="432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5" idx="3"/>
            <a:endCxn id="403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33" idx="1"/>
            <a:endCxn id="409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722-54E5-41A0-9F3C-1CC0685727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113360" y="681120"/>
            <a:ext cx="502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head::add_after(char target,char my_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*lp,*l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 = find_element(targ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 == NULL)  return(false); // not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(lp = new node(my_d)) == NULL) 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prev(lp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-&gt;set_next(lptr-&gt;get_next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one after target should point to the new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lptr-&gt;get_next() != NULL)   // not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get_next()-&gt;set_prev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 // the last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il = l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-&gt;set_next(l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86200" y="42670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51240" y="147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f the target node is the las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716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3120" y="528480"/>
            <a:ext cx="1447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3120" y="833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3120" y="1138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1560" y="5284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3120" y="52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6120" y="870120"/>
            <a:ext cx="4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6120" y="117468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0320" y="1824120"/>
            <a:ext cx="152424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032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22440" y="22813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88920" y="182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461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0320" y="2205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36840" y="3271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36840" y="3728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98960" y="3728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3271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26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6840" y="3652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7160" y="403380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7160" y="4491000"/>
            <a:ext cx="761760" cy="5335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88920" y="449100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5760" y="4033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9129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160" y="4414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4560" y="479592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4560" y="5253120"/>
            <a:ext cx="76176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046320" y="5253120"/>
            <a:ext cx="762120" cy="533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13160" y="4795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9703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4560" y="5176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/>
          <p:nvPr/>
        </p:nvCxnSpPr>
        <p:spPr>
          <a:xfrm>
            <a:off x="1751040" y="757080"/>
            <a:ext cx="534240" cy="1067760"/>
          </a:xfrm>
          <a:prstGeom prst="curvedConnector5">
            <a:avLst>
              <a:gd name="adj1" fmla="val 140121"/>
              <a:gd name="adj2" fmla="val 49983"/>
              <a:gd name="adj3" fmla="val 1401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79" name=""/>
          <p:cNvCxnSpPr/>
          <p:nvPr/>
        </p:nvCxnSpPr>
        <p:spPr>
          <a:xfrm flipH="1" rot="16200000">
            <a:off x="1446120" y="2433240"/>
            <a:ext cx="672120" cy="12816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61" idx="1"/>
            <a:endCxn id="466" idx="3"/>
          </p:cNvCxnSpPr>
          <p:nvPr/>
        </p:nvCxnSpPr>
        <p:spPr>
          <a:xfrm flipV="1" rot="10800000">
            <a:off x="1764720" y="3994200"/>
            <a:ext cx="65772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67" idx="2"/>
            <a:endCxn id="473" idx="1"/>
          </p:cNvCxnSpPr>
          <p:nvPr/>
        </p:nvCxnSpPr>
        <p:spPr>
          <a:xfrm flipH="1" rot="16200000">
            <a:off x="1197360" y="4447800"/>
            <a:ext cx="482040" cy="1662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/>
          <p:nvPr/>
        </p:nvCxnSpPr>
        <p:spPr>
          <a:xfrm flipH="1" flipV="1">
            <a:off x="1750680" y="4338360"/>
            <a:ext cx="2057760" cy="1257840"/>
          </a:xfrm>
          <a:prstGeom prst="curvedConnector5">
            <a:avLst>
              <a:gd name="adj1" fmla="val -10411"/>
              <a:gd name="adj2" fmla="val 49985"/>
              <a:gd name="adj3" fmla="val -1041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2589120" y="57862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4560" y="2281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/>
          <p:nvPr/>
        </p:nvCxnSpPr>
        <p:spPr>
          <a:xfrm flipH="1" flipV="1">
            <a:off x="2285280" y="2285640"/>
            <a:ext cx="1677240" cy="1944000"/>
          </a:xfrm>
          <a:prstGeom prst="curvedConnector5">
            <a:avLst>
              <a:gd name="adj1" fmla="val -12773"/>
              <a:gd name="adj2" fmla="val 49990"/>
              <a:gd name="adj3" fmla="val -1277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86" name=""/>
          <p:cNvCxnSpPr>
            <a:stCxn id="468" idx="3"/>
            <a:endCxn id="460" idx="1"/>
          </p:cNvCxnSpPr>
          <p:nvPr/>
        </p:nvCxnSpPr>
        <p:spPr>
          <a:xfrm flipV="1">
            <a:off x="1765080" y="3499560"/>
            <a:ext cx="65772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47" idx="3"/>
            <a:endCxn id="475" idx="1"/>
          </p:cNvCxnSpPr>
          <p:nvPr/>
        </p:nvCxnSpPr>
        <p:spPr>
          <a:xfrm>
            <a:off x="1765080" y="985320"/>
            <a:ext cx="748440" cy="4039560"/>
          </a:xfrm>
          <a:prstGeom prst="curvedConnector5">
            <a:avLst>
              <a:gd name="adj1" fmla="val 49037"/>
              <a:gd name="adj2" fmla="val 50000"/>
              <a:gd name="adj3" fmla="val 49037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88" name=""/>
          <p:cNvSpPr/>
          <p:nvPr/>
        </p:nvSpPr>
        <p:spPr>
          <a:xfrm>
            <a:off x="2513160" y="376200"/>
            <a:ext cx="838080" cy="228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96960" y="33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97880" y="6357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75120" y="6396120"/>
            <a:ext cx="83844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80400" y="62816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_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6560" y="6319800"/>
            <a:ext cx="83808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4" name=""/>
          <p:cNvCxnSpPr>
            <a:stCxn id="488" idx="2"/>
            <a:endCxn id="469" idx="1"/>
          </p:cNvCxnSpPr>
          <p:nvPr/>
        </p:nvCxnSpPr>
        <p:spPr>
          <a:xfrm rot="5400000">
            <a:off x="-128520" y="1202400"/>
            <a:ext cx="3643920" cy="2477160"/>
          </a:xfrm>
          <a:prstGeom prst="curvedConnector5">
            <a:avLst>
              <a:gd name="adj1" fmla="val 46665"/>
              <a:gd name="adj2" fmla="val 54607"/>
              <a:gd name="adj3" fmla="val 46665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228600" y="5557680"/>
            <a:ext cx="15238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" y="6014880"/>
            <a:ext cx="76212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6014880"/>
            <a:ext cx="76176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144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" y="5938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3760" y="648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11320" y="6524640"/>
            <a:ext cx="838440" cy="304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501" idx="1"/>
            <a:endCxn id="495" idx="3"/>
          </p:cNvCxnSpPr>
          <p:nvPr/>
        </p:nvCxnSpPr>
        <p:spPr>
          <a:xfrm rot="10800000">
            <a:off x="1766160" y="5785560"/>
            <a:ext cx="1131120" cy="891360"/>
          </a:xfrm>
          <a:prstGeom prst="curvedConnector5">
            <a:avLst>
              <a:gd name="adj1" fmla="val 49984"/>
              <a:gd name="adj2" fmla="val 49979"/>
              <a:gd name="adj3" fmla="val 4998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457200" y="5557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8" idx="3"/>
            <a:endCxn id="466" idx="1"/>
          </p:cNvCxnSpPr>
          <p:nvPr/>
        </p:nvCxnSpPr>
        <p:spPr>
          <a:xfrm flipH="1" flipV="1">
            <a:off x="212400" y="4262040"/>
            <a:ext cx="1464480" cy="1861200"/>
          </a:xfrm>
          <a:prstGeom prst="curvedConnector5">
            <a:avLst>
              <a:gd name="adj1" fmla="val -15613"/>
              <a:gd name="adj2" fmla="val 24395"/>
              <a:gd name="adj3" fmla="val -15613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496" idx="1"/>
            <a:endCxn id="472" idx="1"/>
          </p:cNvCxnSpPr>
          <p:nvPr/>
        </p:nvCxnSpPr>
        <p:spPr>
          <a:xfrm flipH="1" rot="10800000">
            <a:off x="213120" y="5023800"/>
            <a:ext cx="2056680" cy="1257840"/>
          </a:xfrm>
          <a:prstGeom prst="curvedConnector5">
            <a:avLst>
              <a:gd name="adj1" fmla="val -10416"/>
              <a:gd name="adj2" fmla="val 49985"/>
              <a:gd name="adj3" fmla="val -1041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1E8-9973-407B-995C-601FBCB152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03:50:18Z</dcterms:created>
  <dc:creator>kent archie</dc:creator>
  <dc:description/>
  <dc:language>en-US</dc:language>
  <cp:lastModifiedBy>kent archie</cp:lastModifiedBy>
  <dcterms:modified xsi:type="dcterms:W3CDTF">2003-09-15T22:08:53Z</dcterms:modified>
  <cp:revision>34</cp:revision>
  <dc:subject/>
  <dc:title>No Slide Title</dc:title>
</cp:coreProperties>
</file>