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ED17-B7F7-4CDE-BEF3-A2C2DB38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6E3-0E14-4782-93E9-BE23C99C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B3A7-8A1A-414B-A031-69A8F4CD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566-08F3-4B5B-87EC-FC4D2701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6100-3BA9-404B-BAE9-94EE6C4A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DE75-2761-4F48-BE4E-10DC9654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6407-3CE1-477E-A41A-D57BB1F4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C744-6359-4D4A-8C7D-B850F6CC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226-0601-4502-841E-2C72902E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A786-3712-4429-BE9E-7DC0F727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41CC-CA50-459E-9643-1947DE3B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E15E-9846-48BF-931D-2358B95A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5D5F-6943-405F-8FC3-5790A3366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 327 Binary Trees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inprintr(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41148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447920" y="1752480"/>
            <a:ext cx="30477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1143000"/>
            <a:ext cx="38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call of  inprintr(bagel) from inprintr(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8006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447920" y="1752480"/>
            <a:ext cx="30477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4876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ing  inprintr(NULL) from inprintr(bag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518148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447920" y="1752480"/>
            <a:ext cx="30477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4876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 inprintr(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76920" y="403848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447920" y="1752480"/>
            <a:ext cx="30477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91320" y="1143000"/>
            <a:ext cx="38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call of inprintr(bagel) from inprintr(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00600" y="518148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447920" y="1752480"/>
            <a:ext cx="30477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4876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556272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600200" y="23623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, we have printed the entire left side of the subtree bel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Now we are back 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continue from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call of  inprintr(root) from inprintr(bag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876920" y="48006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487692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ing inprintr(dog) from inprintr(c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00600" y="518148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487692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inprintr(do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876920" y="41148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487692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ing inprintr(color) from inprintr(do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952880" y="449568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487692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order Print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ection demonstrates the recursive, in-order tree print rout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inprintr(co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76920" y="41148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487692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2895120" y="1752480"/>
            <a:ext cx="304812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ing inprintr(NULL) from inprintr(co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76920" y="449568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487692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2895120" y="1752480"/>
            <a:ext cx="304812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inprintr(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876920" y="41148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487692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2895120" y="1752480"/>
            <a:ext cx="304812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172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172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248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315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248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315200" y="1143000"/>
            <a:ext cx="38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call of inprintr(color) from inprintr(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76920" y="48006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0" y="4876920"/>
            <a:ext cx="1219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2895120" y="1752480"/>
            <a:ext cx="304812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ing inprintr(NULL) from inprintr(co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952880" y="518148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4876920"/>
            <a:ext cx="1219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2895120" y="1752480"/>
            <a:ext cx="304812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inprintr(NULL) from inprintr(co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952880" y="41148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4876920"/>
            <a:ext cx="1219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2895120" y="1752480"/>
            <a:ext cx="304812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172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172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248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315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248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315200" y="1143000"/>
            <a:ext cx="38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call of inprintr(color) from inprintr(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648320" y="556272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0" y="4876920"/>
            <a:ext cx="1219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2895120" y="1752480"/>
            <a:ext cx="304812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800600" y="518148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call of inprintr(dog) from inprintr(co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876920" y="48006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0" y="4876920"/>
            <a:ext cx="1219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876920" y="441972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ing inprintr(move) from inprintr(do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952880" y="518148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0" y="4876920"/>
            <a:ext cx="1219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 inprintr(move) from inprintr(do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952880" y="41148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0" y="4876920"/>
            <a:ext cx="1219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4266720" y="1905120"/>
            <a:ext cx="175284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609480"/>
            <a:ext cx="7467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() - create binar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main(int argc, char* argv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s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stream filei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in.open("trees.txt");   // file to read test strings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load data from the file into th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(tru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in &gt;&gt; s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filein.eof()) break;   // real end of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add_value(s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ut file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in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in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ing  inprintr(NULL) from inprintr(mo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952880" y="449568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4876920"/>
            <a:ext cx="1219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>
            <a:off x="4266720" y="1905120"/>
            <a:ext cx="175284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inprintr(NULL) from inprintr(mo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800600" y="41148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0" y="4876920"/>
            <a:ext cx="1219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>
            <a:off x="4266720" y="1905120"/>
            <a:ext cx="175284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172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172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248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315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248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315200" y="1143000"/>
            <a:ext cx="38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call of  inprintr(move) from inprintr(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76920" y="48006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0" y="4876920"/>
            <a:ext cx="12193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4266720" y="1905120"/>
            <a:ext cx="175284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876920" y="449568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ing  inprintr(null) from inprintr(mo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952880" y="518148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0" y="4876920"/>
            <a:ext cx="12193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>
            <a:off x="4266720" y="1905120"/>
            <a:ext cx="175284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inprintr(NULL) from inprintr(mo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800600" y="41148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0" y="4876920"/>
            <a:ext cx="12193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H="1">
            <a:off x="4266720" y="1905120"/>
            <a:ext cx="175284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172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172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248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7315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248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315200" y="1143000"/>
            <a:ext cx="38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call of  inprintr(move) from inprintr(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648320" y="556272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0" y="4876920"/>
            <a:ext cx="12193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64832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64832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724280" y="754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7913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7242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4266720" y="1905120"/>
            <a:ext cx="175284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876920" y="510552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call of inprintr(dog) from inprintr(mo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648320" y="556272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0" y="4876920"/>
            <a:ext cx="12193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3429000" y="1600200"/>
            <a:ext cx="9907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952880" y="518148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call of inprintr(cab) from inprintr(do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724280" y="541008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0" y="4876920"/>
            <a:ext cx="12193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724280" y="556272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"/>
          <p:cNvSpPr/>
          <p:nvPr/>
        </p:nvSpPr>
        <p:spPr>
          <a:xfrm>
            <a:off x="5562720" y="2895480"/>
            <a:ext cx="33526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inorder tree 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oo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call of inprint() from inprintr(c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181480" y="464832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0" y="4876920"/>
            <a:ext cx="12193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029200" y="495288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ished the inorder printing of the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de now returns to T.inprint() which just returns back to main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315200" y="373392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19920" y="3200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ile to creat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tree after call to inprint() in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8195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32004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32004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8620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267080"/>
            <a:ext cx="6098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267080"/>
            <a:ext cx="6094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88620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267080"/>
            <a:ext cx="6098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4267080"/>
            <a:ext cx="6094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480060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4800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181480"/>
            <a:ext cx="6094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181480"/>
            <a:ext cx="6094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4876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4876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5257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57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62120" y="33526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33526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286000" y="45720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45720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ree Insertion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ection demonstrates the recursive, tree node insertion rout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762120" y="560520"/>
            <a:ext cx="7467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() - create binar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main(int argc, char* argv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s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stream filei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in.open("trees.txt");   // file to read test strings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load data from the file into th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(tru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in &gt;&gt; s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filein.eof()) break;   // real end of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add_value(s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ut file 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in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inpr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"/>
          <p:cNvSpPr/>
          <p:nvPr/>
        </p:nvSpPr>
        <p:spPr>
          <a:xfrm>
            <a:off x="7315200" y="373392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6019920" y="3200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ile to creat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vironment before first call in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838080" y="1143000"/>
            <a:ext cx="381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T.add_value (cab) from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876920" y="3657600"/>
            <a:ext cx="426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e::add_value(string st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str.length()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ow new Err("add_value: bad param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(add_valuer(root,str,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838080" y="1143000"/>
            <a:ext cx="381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T.add_value (cab) from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876920" y="3657600"/>
            <a:ext cx="426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e::add_value(string st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str.length()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ow new Err("add_value: bad param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(add_valuer(root,str,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838080" y="1143000"/>
            <a:ext cx="381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495680" y="52578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"/>
          <p:cNvSpPr/>
          <p:nvPr/>
        </p:nvSpPr>
        <p:spPr>
          <a:xfrm>
            <a:off x="53352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add_valuer (root,cab,0) from T.add_value(c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838080" y="1143000"/>
            <a:ext cx="381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114800" y="312408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048120" y="1143000"/>
            <a:ext cx="10666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&amp;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114800" y="1219320"/>
            <a:ext cx="7621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 flipH="1">
            <a:off x="533160" y="1371600"/>
            <a:ext cx="342900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"/>
          <p:cNvSpPr/>
          <p:nvPr/>
        </p:nvSpPr>
        <p:spPr>
          <a:xfrm>
            <a:off x="53352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add_valuer (root,cab,0) from T.add_value(c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838080" y="1143000"/>
            <a:ext cx="381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191120" y="34290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048120" y="1143000"/>
            <a:ext cx="1066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&amp; t string str int count node *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114800" y="1219320"/>
            <a:ext cx="762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LL 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 flipH="1">
            <a:off x="533160" y="1371600"/>
            <a:ext cx="342900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 flipH="1">
            <a:off x="2057400" y="2133720"/>
            <a:ext cx="2286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"/>
          <p:cNvSpPr/>
          <p:nvPr/>
        </p:nvSpPr>
        <p:spPr>
          <a:xfrm>
            <a:off x="53352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add_valuer (root,cab,0) from T.add_value(c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838080" y="1143000"/>
            <a:ext cx="381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267080" y="38862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048120" y="1143000"/>
            <a:ext cx="1066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&amp; t string str int count node *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4114800" y="1219320"/>
            <a:ext cx="762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LL </a:t>
            </a: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533160" y="1371600"/>
            <a:ext cx="342900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 flipH="1">
            <a:off x="2057400" y="2133720"/>
            <a:ext cx="2286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"/>
          <p:cNvSpPr/>
          <p:nvPr/>
        </p:nvSpPr>
        <p:spPr>
          <a:xfrm>
            <a:off x="53352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add_valuer (root,cab,0) from T.add_value(c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838080" y="1143000"/>
            <a:ext cx="381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267080" y="41148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3048120" y="1143000"/>
            <a:ext cx="1066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&amp; t string str int count node *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114800" y="1219320"/>
            <a:ext cx="762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LL 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 flipH="1">
            <a:off x="533160" y="1371600"/>
            <a:ext cx="342900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flipH="1">
            <a:off x="2057400" y="2133720"/>
            <a:ext cx="2286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"/>
          <p:cNvSpPr/>
          <p:nvPr/>
        </p:nvSpPr>
        <p:spPr>
          <a:xfrm>
            <a:off x="53352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add_valuer (root,cab,0) from T.add_value(c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380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267080" y="43434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048120" y="1143000"/>
            <a:ext cx="1066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&amp; 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ring str int count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4114800" y="1219320"/>
            <a:ext cx="762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flipH="1">
            <a:off x="533160" y="1371600"/>
            <a:ext cx="342900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flipH="1">
            <a:off x="2057400" y="2133720"/>
            <a:ext cx="2286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H="1">
            <a:off x="1600200" y="1295280"/>
            <a:ext cx="2743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838080" y="160020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562720" y="2895480"/>
            <a:ext cx="33526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inorder tree 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oo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inprint() from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464832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"/>
          <p:cNvSpPr/>
          <p:nvPr/>
        </p:nvSpPr>
        <p:spPr>
          <a:xfrm>
            <a:off x="53352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T.add_value(cab) from add_valuer(root,cab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495680" y="411480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e::add_value(string st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str.length()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ow new Err("add_value: bad param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(add_valuer(root,str,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8380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038480" y="59436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838080" y="160020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114800" y="57150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"/>
          <p:cNvSpPr/>
          <p:nvPr/>
        </p:nvSpPr>
        <p:spPr>
          <a:xfrm>
            <a:off x="53352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add_valuer (root,bagel,0) from T.add_value(bag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8380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114800" y="312408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048120" y="1143000"/>
            <a:ext cx="1066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&amp; 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ring str int count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4114800" y="1219320"/>
            <a:ext cx="762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H="1">
            <a:off x="533160" y="1371600"/>
            <a:ext cx="342900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 flipH="1">
            <a:off x="1600200" y="1295280"/>
            <a:ext cx="2743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838080" y="160020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"/>
          <p:cNvSpPr/>
          <p:nvPr/>
        </p:nvSpPr>
        <p:spPr>
          <a:xfrm>
            <a:off x="53352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add_valuer (root,bagel,0) from T.add_value(bag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8380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4191120" y="510552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048120" y="1143000"/>
            <a:ext cx="10666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&amp; t string str int count node *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114800" y="1219320"/>
            <a:ext cx="76212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 flipH="1">
            <a:off x="533160" y="1371600"/>
            <a:ext cx="342900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1600200" y="1295280"/>
            <a:ext cx="2743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838080" y="160020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"/>
          <p:cNvSpPr/>
          <p:nvPr/>
        </p:nvSpPr>
        <p:spPr>
          <a:xfrm>
            <a:off x="53352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ing add_valuer (root,bagel,0) from add_valuer(c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8380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4267080" y="624852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048120" y="1143000"/>
            <a:ext cx="10666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&amp; t string str int count node *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4114800" y="1219320"/>
            <a:ext cx="762120" cy="15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 flipH="1">
            <a:off x="533160" y="1371600"/>
            <a:ext cx="342900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H="1">
            <a:off x="1600200" y="1295280"/>
            <a:ext cx="2743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838080" y="160020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"/>
          <p:cNvSpPr/>
          <p:nvPr/>
        </p:nvSpPr>
        <p:spPr>
          <a:xfrm>
            <a:off x="533520" y="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add_valuer (root,bagel,1) from add_valuer(root,cab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8380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114800" y="312408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048120" y="1143000"/>
            <a:ext cx="10666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&amp; t string str int count node *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114800" y="1219320"/>
            <a:ext cx="762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LL        bag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838080" y="160020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>
            <a:off x="1447560" y="1371600"/>
            <a:ext cx="2514600" cy="1905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"/>
          <p:cNvSpPr/>
          <p:nvPr/>
        </p:nvSpPr>
        <p:spPr>
          <a:xfrm>
            <a:off x="533520" y="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add_valuer (root,bagel,1) from add_valuer(root,cab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8380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114800" y="335268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048120" y="1143000"/>
            <a:ext cx="10666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&amp; t string str int count node *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114800" y="1219320"/>
            <a:ext cx="762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LL        bag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838080" y="160020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0" y="3809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09480" y="4191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0" y="4191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H="1">
            <a:off x="1142640" y="2133720"/>
            <a:ext cx="30481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H="1">
            <a:off x="1447560" y="1371600"/>
            <a:ext cx="2514600" cy="1905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"/>
          <p:cNvSpPr/>
          <p:nvPr/>
        </p:nvSpPr>
        <p:spPr>
          <a:xfrm>
            <a:off x="533520" y="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add_valuer (root,bagel,1) from add_valuer(root,cab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8380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191120" y="396252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048120" y="1143000"/>
            <a:ext cx="10666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&amp; t string str int count node *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4114800" y="1219320"/>
            <a:ext cx="762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LL        bag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838080" y="160020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0" y="3809880"/>
            <a:ext cx="12193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609480" y="4191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4191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 flipH="1">
            <a:off x="1142640" y="2133720"/>
            <a:ext cx="30481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0" y="3809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flipH="1">
            <a:off x="1447560" y="1371600"/>
            <a:ext cx="2514600" cy="1905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"/>
          <p:cNvSpPr/>
          <p:nvPr/>
        </p:nvSpPr>
        <p:spPr>
          <a:xfrm>
            <a:off x="533520" y="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add_valuer (root,bagel,1) from add_valuer(root,cab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8380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267080" y="41148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048120" y="1143000"/>
            <a:ext cx="10666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&amp; t string str int count node *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114800" y="1219320"/>
            <a:ext cx="762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LL        bag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838080" y="160020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0" y="3809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609480" y="4191120"/>
            <a:ext cx="60984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0" y="4191120"/>
            <a:ext cx="6094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 flipH="1">
            <a:off x="1142640" y="2133720"/>
            <a:ext cx="30481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0" y="3809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flipH="1">
            <a:off x="1447560" y="1371600"/>
            <a:ext cx="2514600" cy="1905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"/>
          <p:cNvSpPr/>
          <p:nvPr/>
        </p:nvSpPr>
        <p:spPr>
          <a:xfrm>
            <a:off x="533520" y="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add_valuer (root,bagel,1) from add_valuer(root,cab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495680" y="2209680"/>
            <a:ext cx="4648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 tree::add_valuer(node *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,string str,int 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t =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(n = new node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w new Mem("add_valuer: nod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value=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&gt;left = n-&gt;righ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=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c = str.compare(t-&gt;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c == 0)    return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( c &g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righ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(add_valuer(t-&gt;left,str,count+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// add_val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8380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4267080" y="43434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124080" y="533520"/>
            <a:ext cx="17528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124080" y="1066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200400" y="754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40384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048120" y="1143000"/>
            <a:ext cx="10666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&amp; 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ring str int count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node *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4114800" y="1219320"/>
            <a:ext cx="762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LL        bag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838080" y="160020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0" y="3809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609480" y="4191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0" y="4191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 flipH="1">
            <a:off x="1142640" y="2133720"/>
            <a:ext cx="3048120" cy="1828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0" y="3809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 flipH="1">
            <a:off x="1447560" y="1371600"/>
            <a:ext cx="2514600" cy="1905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flipH="1">
            <a:off x="456840" y="32767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"/>
          <p:cNvSpPr/>
          <p:nvPr/>
        </p:nvSpPr>
        <p:spPr>
          <a:xfrm>
            <a:off x="53352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to T.add_value(cab) from add_valuer(root,bagel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0" y="533520"/>
            <a:ext cx="13716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371600" y="533520"/>
            <a:ext cx="17524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1371600" y="1066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4479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_valu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22860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295280" y="11430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 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4495680" y="411480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e::add_value(string st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str.length()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ow new Err("add_value: bad param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(add_valuer(root,str,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// add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8380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2362320" y="1143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4038480" y="59436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21932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838080" y="160020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4114800" y="57150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0" y="3809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609480" y="4191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0" y="4191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0" y="3809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 flipH="1">
            <a:off x="456840" y="32767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inprintr(cab) from inpr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411480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ing inprintr(bag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449568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of inprintr(bag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4114800"/>
            <a:ext cx="60948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447920" y="1523880"/>
            <a:ext cx="304776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105520" y="274320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::inprintr(node *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r == NULL) retur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lef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&lt;&lt; r-&gt;value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rintr(r-&gt;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// inprin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ing inprintr(NULL) from inprintr(bag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533520"/>
            <a:ext cx="160020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T from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066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135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160020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0200" y="533520"/>
            <a:ext cx="152388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1066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13716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0574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52880" y="4419720"/>
            <a:ext cx="6098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533520"/>
            <a:ext cx="1524240" cy="167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1066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754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rint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1066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de *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52480" y="30481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30481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4114800"/>
            <a:ext cx="60948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14600" y="373392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1952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411480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41148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76520" y="4648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10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0292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4724280"/>
            <a:ext cx="12193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33920" y="4724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38480" y="510552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29000" y="5105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447920" y="1752480"/>
            <a:ext cx="30477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3200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2120" y="3200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286000" y="4419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10:31:34Z</dcterms:created>
  <dc:creator>kent archie</dc:creator>
  <dc:description/>
  <dc:language>en-US</dc:language>
  <cp:lastModifiedBy>kent archie</cp:lastModifiedBy>
  <dcterms:modified xsi:type="dcterms:W3CDTF">2003-10-14T20:47:27Z</dcterms:modified>
  <cp:revision>22</cp:revision>
  <dc:subject/>
  <dc:title>No Slide Title</dc:title>
</cp:coreProperties>
</file>