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850-113A-4C50-AC55-A2D8E250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85B-C19D-41B4-96F7-FCA159FD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D0E-D1C4-440F-8CE4-1EDE43EA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96B-FF58-4C4E-B7FA-CDFDEC6A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7DA-367D-465D-B744-4AC2A683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998-42A1-490F-9C55-3C38778C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6A0-7EF2-4BC0-BA09-57045AFC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FEA-B476-4FCB-86CF-0EB2C680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D16-B28D-48BA-90B5-51EBDE76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8D0-1478-486B-818E-55CDDCE5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89C-28B1-4A56-9DC8-5ECEE0C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508-F738-4104-A9C0-D664F066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905F-95C4-451C-86C0-0CA2D3696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762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S 327 Advanced C+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209680"/>
            <a:ext cx="5334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ed Li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mo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C0D-A65C-4C2B-86FC-D7467074A4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2209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first one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861-94D4-4AE3-8657-3182A70E6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31240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set the before and target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02D-B6F8-4983-BFD8-14EFC6A6E5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3429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tptr points to the one we ar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6E6-ABC6-4638-A4D4-D955D268BE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C52-3EC8-46DC-9FA3-59466EE9D6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5A6-7D88-41DF-B829-DAFE6F42AA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beforeptr to the targe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BD3-C11A-4A54-BE38-C1518AD879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3392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tptr moves ahead to the nex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FE1-9DDF-4766-AC09-8F6F5B1AC6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7EE-F4D5-473B-846A-59A8467787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7B2-F6FB-4451-A159-814DE351E2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the beforeptr to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A52-02D9-4894-B965-B4E816D105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will try removing the first letter from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819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962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7150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46483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67616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05740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133360" y="5029200"/>
            <a:ext cx="9903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1752480"/>
            <a:ext cx="759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124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640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6477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74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860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R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remove(listfront,’P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905-BA85-43A5-B4CA-106A41459B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gtptr ahea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95A-AF52-47F5-ABF9-B47E0AAADF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8128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B0D-4FEE-4686-A646-12F47333F0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8128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5A5-B4CC-4398-A9BB-93E1FC6BF2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the beforeptr to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18A-BFC8-48E7-A28D-3A7011831F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gtptr ahea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EF7-A709-4D30-BC16-900D7D6C9F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230-59F2-4A4B-87C9-63CA9C2314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62C-FC3D-43E7-8170-6AC2A34F3E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505320" y="41148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733920" y="762120"/>
            <a:ext cx="51814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gtptr-&gt;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 node should point to after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2BC-E448-4D23-97E6-4BFB11D87E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1148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74320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819520" y="5105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95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04812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600200" y="4572000"/>
            <a:ext cx="990720" cy="83808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beforeptr-&gt;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make before one point after targe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EE4-3920-4DF5-89E4-827F5D20C2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14800" y="44197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4320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5105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95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304812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ycle the targe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5FD-E2A0-481E-B8DB-5CDD27A9FD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2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6360" y="914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3623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053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1911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218960" y="28954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523880" y="31240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00200" y="457200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447920"/>
            <a:ext cx="6094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762120"/>
            <a:ext cx="990360" cy="1676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533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4960" y="228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35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29528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9320" y="19018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3040" y="990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137160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04920"/>
            <a:ext cx="54100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26668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32004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76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3341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no list, 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BB2-5A12-4D14-8841-EB92C19E4F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114800" y="46483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74320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19520" y="5105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954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3048120" y="47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1680" y="1598760"/>
            <a:ext cx="81000" cy="2744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2438280"/>
            <a:ext cx="38088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, it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A4B-0295-43E1-890B-FFE23147C5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143000" y="3962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48120" y="46483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205740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152352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3124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5053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7160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0532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657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ing the last letter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62120" y="26668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447920" y="32004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CD2-B16C-4F6C-ABA4-2754674ACA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22716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ly we will try removing the letter R from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27360" y="28195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141560" y="39625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93840" y="57150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046320" y="46483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67436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05596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131920" y="502920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60520" y="175248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75104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46320" y="3124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5035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37016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13160" y="640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8912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27417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228456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1336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R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remove(listfront,’R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34B-DFE2-4FBB-8CA8-4C812ED075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505320" y="16714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no list, 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A54-1F90-4352-BF90-400D872707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29000" y="2209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first one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3E4-76AC-4842-AAC3-2ADF1DE907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31240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set the before and target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9CB-8E48-4A7E-9407-7D4E941180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505320" y="3429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tptr points to the one we ar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9CB-4A5B-49D4-B1EA-194AB51816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0532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283-EC02-4906-8211-1F2B63232C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7339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2128320" y="1598760"/>
            <a:ext cx="1143000" cy="84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773-5F38-42F6-9562-5A9BF5889D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3392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62120" y="2438280"/>
            <a:ext cx="228600" cy="1143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>
            <a:off x="2209680" y="1600200"/>
            <a:ext cx="533520" cy="83808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the beforeptr to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090-CA38-43DB-802B-2ADBECC38B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838080"/>
            <a:ext cx="5410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2096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53341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first one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350-BCB9-477E-9862-AF0F3D798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3392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9480" y="2514600"/>
            <a:ext cx="228600" cy="106668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gtptr ahea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ADE-C17D-4E70-B9E4-CF43E1EEA9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2900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D6F-1459-4DA3-83A9-19F1DF792F7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1447920" y="1598760"/>
            <a:ext cx="1823760" cy="20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BAB-FBB2-4282-8175-6CC6F7D68EA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2120" y="2438280"/>
            <a:ext cx="1828800" cy="5335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1447560" y="1523880"/>
            <a:ext cx="1447560" cy="205740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move the beforeptr to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175-8170-418E-9363-52B3DE35F65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657600" y="53341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914400" y="2362320"/>
            <a:ext cx="1676520" cy="53316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gtptr ahea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651-52FF-4932-82A4-80AE8803A9C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6576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done y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ABA-A641-4E8D-B56C-5F27B24DBE7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581280" y="38862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is the one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BE2-27DC-44A1-84B0-E3621B0B07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32004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09880" y="41148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</a:t>
            </a:r>
            <a:r>
              <a:rPr b="0" lang="en-US" sz="1600" spc="-1" strike="noStrike">
                <a:solidFill>
                  <a:srgbClr val="ff3300"/>
                </a:solidFill>
                <a:latin typeface="Courier New"/>
              </a:rPr>
              <a:t>tgtptr-&gt;nex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should point to Nod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B44-28B5-4CB0-9391-439F4D59DD6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1294920" y="3200400"/>
            <a:ext cx="167652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809880" y="41148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3124080" y="3200400"/>
            <a:ext cx="76320" cy="99072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make before one point after targe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A04-EAB1-4141-AE92-9B76144FCBB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05320" y="299880"/>
            <a:ext cx="541008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1294920" y="3200400"/>
            <a:ext cx="167652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809880" y="44197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ycle the targe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118F-183C-43A5-8587-3015132883A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447920"/>
            <a:ext cx="15228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757080"/>
            <a:ext cx="228600" cy="274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36232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3341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371600"/>
            <a:ext cx="762120" cy="99072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85800"/>
            <a:ext cx="990720" cy="1752480"/>
          </a:xfrm>
          <a:prstGeom prst="line">
            <a:avLst/>
          </a:prstGeom>
          <a:ln w="2844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move the front pointer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6FF-A544-40A9-A5DB-A7FCFB1A30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1294920" y="3200400"/>
            <a:ext cx="167652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09880" y="457200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3124080" y="1598760"/>
            <a:ext cx="147600" cy="106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62120" y="2438280"/>
            <a:ext cx="190476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, it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943-94F7-4108-9CB9-1289A45835F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1143000" y="3962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048120" y="46483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205740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1523520" y="1752480"/>
            <a:ext cx="83844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48120" y="3124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5053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37160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429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50532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3657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ing the letter ‘R’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62120" y="26668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447920" y="3200400"/>
            <a:ext cx="1522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BAD-889D-4063-BE52-6DAD68CC980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447920"/>
            <a:ext cx="15228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757080"/>
            <a:ext cx="228600" cy="274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26668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53341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5943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2096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752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152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one, it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980-3851-4862-9C30-1F9B4F4E4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39625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7150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6483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05740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33360" y="5029200"/>
            <a:ext cx="9903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676160" y="1752480"/>
            <a:ext cx="685800" cy="221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3124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640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6477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4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2860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moving the first letter, the list look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2F4-9757-40EE-A92C-2B8AC6746C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716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will try removing the last letter from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7360" y="28195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1560" y="3962520"/>
            <a:ext cx="9903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3840" y="57150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6320" y="46483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67436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055960" y="3581280"/>
            <a:ext cx="11430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131920" y="502920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0520" y="1752480"/>
            <a:ext cx="763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1040" y="16765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6320" y="3124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03520" y="36576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0160" y="1295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684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3160" y="640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417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28456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3360" y="1219320"/>
            <a:ext cx="5029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node * listfron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tolist(listfront,”PEARL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 remove(listfront,’L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work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“remove failed”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429-4F27-467E-9D8F-053AFAF421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4760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6360" y="9097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357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500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41860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18960" y="289080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523880" y="3119040"/>
            <a:ext cx="11430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600200" y="456732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442880"/>
            <a:ext cx="60948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757080"/>
            <a:ext cx="99036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2848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4960" y="22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28480"/>
            <a:ext cx="7621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290600"/>
            <a:ext cx="7617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320" y="18972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gt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22813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3040" y="9856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1366920"/>
            <a:ext cx="7621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66220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71800" y="319572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1671480"/>
            <a:ext cx="4572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53290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5938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6014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6091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09680" y="5633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752480" y="5634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762120"/>
            <a:ext cx="541008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remove(cnode *&amp; front,char 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ode *tgtptr,*before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front == NULL) 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front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ront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fron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front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tgtptr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( tgtptr-&gt;c == target 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-&gt;next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lete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eforeptr = tgtp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gtptr = tgtptr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w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// 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152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no list, 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D04-4334-48F8-A3DB-85E5AE934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03:50:18Z</dcterms:created>
  <dc:creator>kent archie</dc:creator>
  <dc:description/>
  <dc:language>en-US</dc:language>
  <cp:lastModifiedBy>kent archie</cp:lastModifiedBy>
  <dcterms:modified xsi:type="dcterms:W3CDTF">2003-09-08T03:25:28Z</dcterms:modified>
  <cp:revision>33</cp:revision>
  <dc:subject/>
  <dc:title>No Slide Title</dc:title>
</cp:coreProperties>
</file>