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654-9EB8-4132-BB21-B73A2D6A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270-A36E-4594-9E1D-40A9B761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B1A-8DEE-463C-BF1D-EAFFDB1E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7A2-0A85-49FF-9EDF-F051AAF1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258-34F8-4E46-9E49-BAC1923C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64E-793B-4DD1-9E1C-06B5F07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1F4-FA20-446E-A2C4-18DE5EA5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ECA-A5A6-42C5-AD5B-D6854719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52F-0AC4-47BF-8B16-BD6C7436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097-A6B9-4ABB-A80C-F07BD27A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DE9-7E24-4D97-9043-E82D3DA4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ED1-54A1-4D90-B114-917B4707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256B-CB8B-48BC-99C5-7640E83D1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SUN ONE Java development environ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2F5-B019-4A93-87CE-678A6AAA86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‘Target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arget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AFA-09FF-4835-B013-95E0BF61A5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folder for project and type the name of the project. Then click ‘Finish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arget2" descr=""/>
          <p:cNvPicPr/>
          <p:nvPr/>
        </p:nvPicPr>
        <p:blipFill>
          <a:blip r:embed="rId1"/>
          <a:stretch/>
        </p:blipFill>
        <p:spPr>
          <a:xfrm>
            <a:off x="533520" y="162252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5C3-4384-44E9-AFF2-C2ECD34DB2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e can enter code into the edit wind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dit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71D-A8B5-4E4C-8E54-FC395298D0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compile the code, pull down the ‘Build’ menu and select ‘Compile’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mpile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98C-6678-47E1-A19E-B84DCFDE06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run the program. Select the ‘Execute’ option from the ‘Build’ men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un1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A6E-F9E5-432B-83AE-253CE8A9FA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make an error, like th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error1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D3B-B11A-4C65-A253-3126547EAF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 you see these messages when you compi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rrcompile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2B9-ED46-453D-B1F9-382E83029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other build environments, you can click on the blue, underlined error message to jump to the line with the erro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‘Save All’ to make sure all your changes are safe. The tool saves the files automatically before compi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93D-AF6B-4EB3-B426-556EE4AB61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s the Start window of the SUN ONE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art" descr=""/>
          <p:cNvPicPr/>
          <p:nvPr/>
        </p:nvPicPr>
        <p:blipFill>
          <a:blip r:embed="rId1"/>
          <a:srcRect l="0" t="0" r="-2340" b="-2351"/>
          <a:stretch/>
        </p:blipFill>
        <p:spPr>
          <a:xfrm>
            <a:off x="533520" y="1136520"/>
            <a:ext cx="7989840" cy="572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A57-5E26-4DF6-B42A-9E2AFBD6A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time you use SUN ONE. You need to add (or mount) folders so you can use them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hould show up the next time you use it so these steps should only need to be done o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BA2-BEFA-45F6-8692-A6637B1AEF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mount a filesystem, choose the ‘Mount Filesystem’ option under the ‘File’ men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ount1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13480" cy="53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774-F3A1-49B9-A2A1-556A4EF130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‘Local Directory’ choice. Then click on ‘Next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844-B269-42E7-A56D-4C46BA9198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 to the U: drive (or wherever), create a folder for the application and select that. Then click ‘Finish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ount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C33-25AB-46DC-8AC8-8B977A920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w create a new project by selecting ‘New Project’ from under the ‘File’ men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ewproj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CB1-354B-4D83-ACD1-08A9AFC7F4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the icon to the left of the ‘Classes’ sele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lasses" descr=""/>
          <p:cNvPicPr/>
          <p:nvPr/>
        </p:nvPicPr>
        <p:blipFill>
          <a:blip r:embed="rId1"/>
          <a:stretch/>
        </p:blipFill>
        <p:spPr>
          <a:xfrm>
            <a:off x="685800" y="1622520"/>
            <a:ext cx="731376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D9C-1501-4B26-BBDA-051C922D79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‘Main’ and click ‘Next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hoosemain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313400" cy="52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CB8-5713-4EF5-A987-6652DFF635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43:31Z</dcterms:created>
  <dc:creator>kent archie</dc:creator>
  <dc:description/>
  <dc:language>en-US</dc:language>
  <cp:lastModifiedBy>kent archie</cp:lastModifiedBy>
  <dcterms:modified xsi:type="dcterms:W3CDTF">2003-11-17T01:03:53Z</dcterms:modified>
  <cp:revision>8</cp:revision>
  <dc:subject/>
  <dc:title>Using the SUN ONE Java development environment.</dc:title>
</cp:coreProperties>
</file>