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788-AF83-470C-A136-6CE38F52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1D6-BF10-4F85-85BC-39728D5F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C8B-77F1-4D0C-A3A5-10A2E97C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C4F-D4E3-44A9-B757-115656DF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E02-B9FA-4EF0-A9FB-1B1FD5E9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539-4E7D-4B55-9B9D-D0A617C0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4B5-16A8-40BC-A1AE-5C41EDE0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F88-B412-4835-8D95-6E743673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E32-8F45-4800-9525-1ED0E147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72B-B962-4F65-A354-942A4EB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1FF-E052-4F37-BB9A-64402E22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457-7FFA-41BB-B752-99AA0767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A53E-6A55-44A2-8998-575854896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set of screen snapshots that show the steps to create a simple Java application using Visual Caf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757-BEF1-4C6F-9EAC-667579DA31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itch the project display window to the ‘Fileview’ tab. Double click on the ‘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java’ file. In this example, this is the ‘kent.java’ fi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ILEVIEW" descr=""/>
          <p:cNvPicPr/>
          <p:nvPr/>
        </p:nvPicPr>
        <p:blipFill>
          <a:blip r:embed="rId1"/>
          <a:srcRect l="0" t="0" r="75005" b="56635"/>
          <a:stretch/>
        </p:blipFill>
        <p:spPr>
          <a:xfrm>
            <a:off x="3505320" y="2666880"/>
            <a:ext cx="2438280" cy="29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D6F-7527-488F-A871-06059555FF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the code to the wind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ditwindow" descr=""/>
          <p:cNvPicPr/>
          <p:nvPr/>
        </p:nvPicPr>
        <p:blipFill>
          <a:blip r:embed="rId1"/>
          <a:srcRect l="0" t="0" r="35157" b="32324"/>
          <a:stretch/>
        </p:blipFill>
        <p:spPr>
          <a:xfrm>
            <a:off x="1828800" y="1981080"/>
            <a:ext cx="6324480" cy="466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1DF-A877-46CA-87C9-D7081A95B9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l down the ‘Project’ menu and select ‘Build Application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OMPILE1" descr=""/>
          <p:cNvPicPr/>
          <p:nvPr/>
        </p:nvPicPr>
        <p:blipFill>
          <a:blip r:embed="rId1"/>
          <a:srcRect l="0" t="0" r="30469" b="37847"/>
          <a:stretch/>
        </p:blipFill>
        <p:spPr>
          <a:xfrm>
            <a:off x="1219320" y="2133720"/>
            <a:ext cx="678168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7F9-A506-43C2-B97C-11613F41C0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l down the ‘Project’ menu and select ‘Execute’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UN1" descr=""/>
          <p:cNvPicPr/>
          <p:nvPr/>
        </p:nvPicPr>
        <p:blipFill>
          <a:blip r:embed="rId1"/>
          <a:srcRect l="0" t="0" r="33595" b="52213"/>
          <a:stretch/>
        </p:blipFill>
        <p:spPr>
          <a:xfrm>
            <a:off x="1600200" y="2743200"/>
            <a:ext cx="6477120" cy="32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A90-9DCB-46FE-984E-D5EBB5DD7E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e put an error in the code and try ag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RROR1" descr=""/>
          <p:cNvPicPr/>
          <p:nvPr/>
        </p:nvPicPr>
        <p:blipFill>
          <a:blip r:embed="rId1"/>
          <a:srcRect l="0" t="0" r="34378" b="33426"/>
          <a:stretch/>
        </p:blipFill>
        <p:spPr>
          <a:xfrm>
            <a:off x="1523880" y="1981080"/>
            <a:ext cx="640080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2AB-4306-4B22-8943-64E8C1477B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build the application ag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ERRBUILD" descr=""/>
          <p:cNvPicPr/>
          <p:nvPr/>
        </p:nvPicPr>
        <p:blipFill>
          <a:blip r:embed="rId1"/>
          <a:srcRect l="0" t="0" r="30469" b="37847"/>
          <a:stretch/>
        </p:blipFill>
        <p:spPr>
          <a:xfrm>
            <a:off x="1143000" y="1981080"/>
            <a:ext cx="678168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057-C610-438F-81C8-E2387C503B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on the error message to jump to the line containing the err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ERRCLICK" descr=""/>
          <p:cNvPicPr/>
          <p:nvPr/>
        </p:nvPicPr>
        <p:blipFill>
          <a:blip r:embed="rId1"/>
          <a:srcRect l="0" t="0" r="34378" b="32324"/>
          <a:stretch/>
        </p:blipFill>
        <p:spPr>
          <a:xfrm>
            <a:off x="1447920" y="1905120"/>
            <a:ext cx="6400800" cy="46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136-45A8-48D9-B421-4942AA0D98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‘Save All’ from the ‘File’ menu to save all project files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folder that holds the project, if you double-click on the ‘.vep’ file, the project will be opened under Visual Caf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B8F-20A3-4ED6-8CA4-19C4E320F2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 Café startup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ARTUP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772400" cy="498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385-D264-4E04-AEC0-2F2F78FE91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‘New Project’ from the ‘File’ 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NEWPROJ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F66-1F1A-4983-AC74-1AB6F0D8FC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the kind of project. We will mostly use ‘Empty Project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EWPROJ2" descr=""/>
          <p:cNvPicPr/>
          <p:nvPr/>
        </p:nvPicPr>
        <p:blipFill>
          <a:blip r:embed="rId1"/>
          <a:srcRect l="0" t="0" r="61721" b="60221"/>
          <a:stretch/>
        </p:blipFill>
        <p:spPr>
          <a:xfrm>
            <a:off x="2133720" y="2666880"/>
            <a:ext cx="373356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392-5726-4274-AD4B-63F1C26E60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is the project display window. You can look at a project as classes or fi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ROJVIEW" descr=""/>
          <p:cNvPicPr/>
          <p:nvPr/>
        </p:nvPicPr>
        <p:blipFill>
          <a:blip r:embed="rId1"/>
          <a:srcRect l="0" t="0" r="71878" b="55528"/>
          <a:stretch/>
        </p:blipFill>
        <p:spPr>
          <a:xfrm>
            <a:off x="3048120" y="2057400"/>
            <a:ext cx="2743200" cy="306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AAE-382D-411A-B91B-FA2986B10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is point, you should pull down the File menu and select ‘save as’. Find where you want to put the project and create a folder with the name you want for the project. This should be the same as the name of the main class in th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AVEAS1" descr=""/>
          <p:cNvPicPr/>
          <p:nvPr/>
        </p:nvPicPr>
        <p:blipFill>
          <a:blip r:embed="rId1"/>
          <a:srcRect l="0" t="0" r="57033" b="61051"/>
          <a:stretch/>
        </p:blipFill>
        <p:spPr>
          <a:xfrm>
            <a:off x="990720" y="3886200"/>
            <a:ext cx="4190760" cy="26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AA5-4DCF-4294-8E4A-04CA87F33F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n change the name of the ‘.vep’ file to the name of the project and save the proj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AVEAS2" descr=""/>
          <p:cNvPicPr/>
          <p:nvPr/>
        </p:nvPicPr>
        <p:blipFill>
          <a:blip r:embed="rId1"/>
          <a:srcRect l="0" t="0" r="56251" b="57736"/>
          <a:stretch/>
        </p:blipFill>
        <p:spPr>
          <a:xfrm>
            <a:off x="2057400" y="2971800"/>
            <a:ext cx="4267080" cy="29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97B-4DF0-4E69-9B3A-64B89F4F83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his, you can start the project up for more work later by going into the project folder and double clicking on the ‘.vep’ fi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F0C-34FB-46E8-830D-DF4CFCD7F4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ll down the ‘Insert’ menu and select ‘Class’. Fill in the name box to be the same as the project and click ‘Finish’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nsertclass" descr=""/>
          <p:cNvPicPr/>
          <p:nvPr/>
        </p:nvPicPr>
        <p:blipFill>
          <a:blip r:embed="rId1"/>
          <a:srcRect l="0" t="0" r="52346" b="43370"/>
          <a:stretch/>
        </p:blipFill>
        <p:spPr>
          <a:xfrm>
            <a:off x="2362320" y="2743200"/>
            <a:ext cx="4647960" cy="39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B15-962C-4700-BA6C-4F2E22EF42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4:34:32Z</dcterms:created>
  <dc:creator>kent archie</dc:creator>
  <dc:description/>
  <dc:language>en-US</dc:language>
  <cp:lastModifiedBy>kent archie</cp:lastModifiedBy>
  <dcterms:modified xsi:type="dcterms:W3CDTF">2003-11-14T21:21:16Z</dcterms:modified>
  <cp:revision>11</cp:revision>
  <dc:subject/>
  <dc:title>Visual Café Startup window</dc:title>
</cp:coreProperties>
</file>