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1C5-9B94-470C-A314-E5FEF198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C40-D8F1-4A5B-AB81-EB26EBB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639-340F-4C88-A843-6D3A4306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2C0-55D4-42E7-B724-F31259E4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7D3-16AA-4F8A-A714-CF52FCA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916-8325-4359-A14E-EDE5B34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641-D114-429D-B7F5-EDE783C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8E7-C428-4093-8F4F-7CC6F5B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A10-5366-4C95-BA90-D3DD038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F1B-9D7C-4A4A-A53E-EFBC9DE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993-C9C5-4731-844F-B5AD1B7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FD7-99FC-4B9F-879E-01322604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BD30-CDCE-4232-B32D-665D2831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gives an overview of the steps to create a simple Java project using the Textpad t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F77-1358-41A3-B324-FEBFFFD12E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in thing here is the capture output flag is on. This causes the compiler output to be in another tabbed window rather than in a separate DOS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nfig1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491472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DD8-0D18-4D18-976B-48B03792A6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as ab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onfig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9147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E01-5F2B-4C17-B890-873E40BB3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Text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4EF-B87D-420E-9215-F168C7CDD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code to the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ddcode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1EA-91DD-4247-8F2F-D50686B61A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 the file as a java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aveas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56A-2AAE-4F9C-BA8E-0B15B25E3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using the ‘Tools’ menu and selecting ‘Compile’ or ctrl-1(Control-one). Output is in another tabbed window. See configuration sl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mpile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481-9E3E-4770-840C-36A54C9FE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‘Run’ option under the ‘Tools’ menu or ctrl-2, executes the current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u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60A-B76C-4C18-9FF9-2BEB8905BF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the typo, printlxx rather than printl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rror1" descr=""/>
          <p:cNvPicPr/>
          <p:nvPr/>
        </p:nvPicPr>
        <p:blipFill>
          <a:blip r:embed="rId1"/>
          <a:stretch/>
        </p:blipFill>
        <p:spPr>
          <a:xfrm>
            <a:off x="990720" y="17431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910-FB17-4B1A-B220-F104D7A977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ing again shows the erro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rrcompile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4F7-2ADB-42E7-A906-8A73337CB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ing on the error message takes us to that line in the source co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jumpto" descr=""/>
          <p:cNvPicPr/>
          <p:nvPr/>
        </p:nvPicPr>
        <p:blipFill>
          <a:blip r:embed="rId1"/>
          <a:stretch/>
        </p:blipFill>
        <p:spPr>
          <a:xfrm>
            <a:off x="914400" y="174312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BED-E660-4ACD-9B6D-C3DCAFC5DB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4:40:05Z</dcterms:created>
  <dc:creator>kent archie</dc:creator>
  <dc:description/>
  <dc:language>en-US</dc:language>
  <cp:lastModifiedBy>kent archie</cp:lastModifiedBy>
  <dcterms:modified xsi:type="dcterms:W3CDTF">2003-11-14T21:25:21Z</dcterms:modified>
  <cp:revision>9</cp:revision>
  <dc:subject/>
  <dc:title>Starting Textpad</dc:title>
</cp:coreProperties>
</file>