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CB4-7EA3-488E-B63E-5A2923B3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8AE-3D48-41AE-AB67-55F121B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4A9-8407-480F-9436-5E22CB67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D45-384A-4600-8F8E-ADAD7E93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69A-1C55-4390-929B-217284F9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3E9-D10D-426C-8D97-D14B809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753-8D22-44A4-B2C3-DC8CDF81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E9C-FACD-4EE4-B111-EB0F728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651-8672-40BA-AC03-A5C9892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599-D02E-4315-B39C-779AE4D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869-C198-4742-9575-AD5D85D4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4B8-A393-4884-80E5-4A17DB7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95B4-9A01-4235-BE50-20DAEEF5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set of screen snapshots that show the steps to create a simple Java application using Visual Caf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081-678C-457B-B8B7-5C8A5FB90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itch the project display window to the ‘Fileview’ tab. Double click on the 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java’ file. In this example, this is the ‘kent.java’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ILEVIEW" descr=""/>
          <p:cNvPicPr/>
          <p:nvPr/>
        </p:nvPicPr>
        <p:blipFill>
          <a:blip r:embed="rId1"/>
          <a:srcRect l="0" t="0" r="75005" b="56635"/>
          <a:stretch/>
        </p:blipFill>
        <p:spPr>
          <a:xfrm>
            <a:off x="3505320" y="2666880"/>
            <a:ext cx="2438280" cy="29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55C-EFBF-4AFA-A0E4-34FB34F727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the code to the wind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ditwindow" descr=""/>
          <p:cNvPicPr/>
          <p:nvPr/>
        </p:nvPicPr>
        <p:blipFill>
          <a:blip r:embed="rId1"/>
          <a:srcRect l="0" t="0" r="35157" b="32324"/>
          <a:stretch/>
        </p:blipFill>
        <p:spPr>
          <a:xfrm>
            <a:off x="1828800" y="1981080"/>
            <a:ext cx="6324480" cy="46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E24-9EC4-4738-8FDF-C974A1D9A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l down the ‘Project’ menu and select ‘Build Application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OMPILE1" descr=""/>
          <p:cNvPicPr/>
          <p:nvPr/>
        </p:nvPicPr>
        <p:blipFill>
          <a:blip r:embed="rId1"/>
          <a:srcRect l="0" t="0" r="30469" b="37847"/>
          <a:stretch/>
        </p:blipFill>
        <p:spPr>
          <a:xfrm>
            <a:off x="1219320" y="2133720"/>
            <a:ext cx="67816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873-C77D-4763-B448-1949DA2FF6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l down the ‘Project’ menu and select ‘Execute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UN1" descr=""/>
          <p:cNvPicPr/>
          <p:nvPr/>
        </p:nvPicPr>
        <p:blipFill>
          <a:blip r:embed="rId1"/>
          <a:srcRect l="0" t="0" r="33595" b="52213"/>
          <a:stretch/>
        </p:blipFill>
        <p:spPr>
          <a:xfrm>
            <a:off x="1600200" y="2743200"/>
            <a:ext cx="6477120" cy="32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5E9-7A65-4AA0-BEC7-E120C6BFB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put an error in the code and try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RROR1" descr=""/>
          <p:cNvPicPr/>
          <p:nvPr/>
        </p:nvPicPr>
        <p:blipFill>
          <a:blip r:embed="rId1"/>
          <a:srcRect l="0" t="0" r="34378" b="33426"/>
          <a:stretch/>
        </p:blipFill>
        <p:spPr>
          <a:xfrm>
            <a:off x="1523880" y="1981080"/>
            <a:ext cx="640080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BEE-B215-4919-B1DC-B17E9C31B5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build the application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RRBUILD" descr=""/>
          <p:cNvPicPr/>
          <p:nvPr/>
        </p:nvPicPr>
        <p:blipFill>
          <a:blip r:embed="rId1"/>
          <a:srcRect l="0" t="0" r="30469" b="37847"/>
          <a:stretch/>
        </p:blipFill>
        <p:spPr>
          <a:xfrm>
            <a:off x="1143000" y="1981080"/>
            <a:ext cx="678168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FF2-09B7-4EAF-AC56-F1C38BAF8E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on the error message to jump to the line containing the err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RRCLICK" descr=""/>
          <p:cNvPicPr/>
          <p:nvPr/>
        </p:nvPicPr>
        <p:blipFill>
          <a:blip r:embed="rId1"/>
          <a:srcRect l="0" t="0" r="34378" b="32324"/>
          <a:stretch/>
        </p:blipFill>
        <p:spPr>
          <a:xfrm>
            <a:off x="1447920" y="1905120"/>
            <a:ext cx="6400800" cy="46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D21-DEE9-4934-9A1E-6F6B5FA87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‘Save All’ from the ‘File’ menu to save all project file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older that holds the project, if you double-click on the ‘.vep’ file, the project will be opened under Visual Caf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699-4527-4716-9188-1ED3689D7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Café startup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UP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A2C-1F04-490D-A267-F3C8ADA86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‘New Project’ from the ‘File’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NEWPROJ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96B-60B4-41EF-AFAD-83257ADD8E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the kind of project. We will mostly use ‘Empty Projec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EWPROJ2" descr=""/>
          <p:cNvPicPr/>
          <p:nvPr/>
        </p:nvPicPr>
        <p:blipFill>
          <a:blip r:embed="rId1"/>
          <a:srcRect l="0" t="0" r="61721" b="60221"/>
          <a:stretch/>
        </p:blipFill>
        <p:spPr>
          <a:xfrm>
            <a:off x="2133720" y="2666880"/>
            <a:ext cx="373356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AB4-1DC9-47FD-84A4-B4718076F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project display window. You can look at a project as classes or f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ROJVIEW" descr=""/>
          <p:cNvPicPr/>
          <p:nvPr/>
        </p:nvPicPr>
        <p:blipFill>
          <a:blip r:embed="rId1"/>
          <a:srcRect l="0" t="0" r="71878" b="55528"/>
          <a:stretch/>
        </p:blipFill>
        <p:spPr>
          <a:xfrm>
            <a:off x="3048120" y="2057400"/>
            <a:ext cx="2743200" cy="30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7AE-07E1-4B9E-AF3F-E4CBC072A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is point, you should pull down the File menu and select ‘save as’. Find where you want to put the project and create a folder with the name you want for the project. This should be the same as the name of the main class in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VEAS1" descr=""/>
          <p:cNvPicPr/>
          <p:nvPr/>
        </p:nvPicPr>
        <p:blipFill>
          <a:blip r:embed="rId1"/>
          <a:srcRect l="0" t="0" r="57033" b="61051"/>
          <a:stretch/>
        </p:blipFill>
        <p:spPr>
          <a:xfrm>
            <a:off x="990720" y="3886200"/>
            <a:ext cx="419076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7CD-6D81-4526-AEA9-6DA6BA1D67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change the name of the ‘.vep’ file to the name of the project and save the proj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AVEAS2" descr=""/>
          <p:cNvPicPr/>
          <p:nvPr/>
        </p:nvPicPr>
        <p:blipFill>
          <a:blip r:embed="rId1"/>
          <a:srcRect l="0" t="0" r="56251" b="57736"/>
          <a:stretch/>
        </p:blipFill>
        <p:spPr>
          <a:xfrm>
            <a:off x="2057400" y="2971800"/>
            <a:ext cx="4267080" cy="29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1A6-41B5-4900-84C3-A1337973A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his, you can start the project up for more work later by going into the project folder and double clicking on the ‘.vep’ f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14B-3FCE-41F9-B9C8-CA2EEE4C41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ll down the ‘Insert’ menu and select ‘Class’. Fill in the name box to be the same as the project and click ‘Finish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nsertclass" descr=""/>
          <p:cNvPicPr/>
          <p:nvPr/>
        </p:nvPicPr>
        <p:blipFill>
          <a:blip r:embed="rId1"/>
          <a:srcRect l="0" t="0" r="52346" b="43370"/>
          <a:stretch/>
        </p:blipFill>
        <p:spPr>
          <a:xfrm>
            <a:off x="2362320" y="2743200"/>
            <a:ext cx="464796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259-3948-43F5-86ED-962C76DF7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4:34:32Z</dcterms:created>
  <dc:creator>kent archie</dc:creator>
  <dc:description/>
  <dc:language>en-US</dc:language>
  <cp:lastModifiedBy>kent archie</cp:lastModifiedBy>
  <dcterms:modified xsi:type="dcterms:W3CDTF">2003-11-14T21:21:16Z</dcterms:modified>
  <cp:revision>11</cp:revision>
  <dc:subject/>
  <dc:title>Visual Café Startup window</dc:title>
</cp:coreProperties>
</file>