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D96-1333-40DA-A919-B5376487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600-42CE-456C-8C04-559C6B7D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7FB-C280-4FBF-BE79-1D5D69CB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7BD-0DB9-429B-A44F-75E00D00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26D-8935-4C1F-87BA-013235FC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7AC-450F-4731-A167-D30B1EDF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544-3749-47CC-AA6A-E0DEABBA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371-625F-4B19-8099-448B1D5A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926-919B-4258-8C4A-7D7118A9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E4A-4AE8-48A7-B2CA-3B2EAB91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51D-999F-4225-8FC1-EB862E07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E18-4085-4759-8BDA-1CBEC409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0510-7BD6-4724-86D8-ABA17360D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SUN ONE Java development environ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BB9-007F-45BC-A7BA-6370ACC523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‘Target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arget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58D-A09A-405B-BFFC-2FCAD532AE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folder for project and type the name of the project. Then click ‘Finish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arget2" descr=""/>
          <p:cNvPicPr/>
          <p:nvPr/>
        </p:nvPicPr>
        <p:blipFill>
          <a:blip r:embed="rId1"/>
          <a:stretch/>
        </p:blipFill>
        <p:spPr>
          <a:xfrm>
            <a:off x="533520" y="162252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CD3-6DEE-47C4-B022-A22E5011F7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e can enter code into the edit wind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dit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5ED-2F2B-44DE-BEFC-A58FED53C7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compile the code, pull down the ‘Build’ menu and select ‘Compile’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mpile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242-FD75-4C95-A461-B5AC0E723C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run the program. Select the ‘Execute’ option from the ‘Build’ men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un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69C-50E6-4E64-B2C9-007C430178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make an error, like th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error1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7D4-E980-42CC-8DF2-2A90279B41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 you see these messages when you comp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rrcompile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10E-0BE0-4A82-A133-3386877DFE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other build environments, you can click on the blue, underlined error message to jump to the line with the erro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‘Save All’ to make sure all your changes are safe. The tool saves the files automatically before compi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054-4598-4232-A701-06CA80221D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s the Start window of the SUN ONE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art" descr=""/>
          <p:cNvPicPr/>
          <p:nvPr/>
        </p:nvPicPr>
        <p:blipFill>
          <a:blip r:embed="rId1"/>
          <a:srcRect l="0" t="0" r="-2340" b="-2351"/>
          <a:stretch/>
        </p:blipFill>
        <p:spPr>
          <a:xfrm>
            <a:off x="533520" y="1136520"/>
            <a:ext cx="7989840" cy="572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71C-81E1-4C93-9E9C-08A52D99C5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time you use SUN ONE. You need to add (or mount) folders so you can use them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hould show up the next time you use it so these steps should only need to be done o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C45-4A6B-46FB-BBB1-ABC5C1ABB0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mount a filesystem, choose the ‘Mount Filesystem’ option under the ‘File’ men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ount1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13480" cy="53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CDB-2600-4A4F-85FD-80C73CFC87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‘Local Directory’ choice. Then click on ‘Next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F57-3B8D-435C-9D7C-D1017E4774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 to the U: drive (or wherever), create a folder for the application and select that. Then click ‘Finish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ount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333-6629-4072-9DE8-73FBA241DF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w create a new project by selecting ‘New Project’ from under the ‘File’ men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ewproj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78A-326D-4DB0-ACF1-CFD83744E6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the icon to the left of the ‘Classes’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lasses" descr=""/>
          <p:cNvPicPr/>
          <p:nvPr/>
        </p:nvPicPr>
        <p:blipFill>
          <a:blip r:embed="rId1"/>
          <a:stretch/>
        </p:blipFill>
        <p:spPr>
          <a:xfrm>
            <a:off x="685800" y="162252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74B-7DA4-4F41-A832-9A0C0FCB8C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‘Main’ and click ‘Next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hoosemain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87D-F580-47E0-B10C-F917BB4EB9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43:31Z</dcterms:created>
  <dc:creator>kent archie</dc:creator>
  <dc:description/>
  <dc:language>en-US</dc:language>
  <cp:lastModifiedBy>kent archie</cp:lastModifiedBy>
  <dcterms:modified xsi:type="dcterms:W3CDTF">2003-11-17T01:03:53Z</dcterms:modified>
  <cp:revision>8</cp:revision>
  <dc:subject/>
  <dc:title>Using the SUN ONE Java development environment.</dc:title>
</cp:coreProperties>
</file>