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3F3-1CF3-4ADF-B5B7-04EB62D7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2B6-3CFD-4CD1-BDC3-954AE852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F8D-9867-4095-8200-9D479C90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8AD-6B8E-420A-8917-B532BCD8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B80-BB93-4F3C-A3D0-D06632A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C3B-97FF-4B18-A1AC-C3B99532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175-3BE5-4CFE-A58C-DA931BC3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2DF-58B2-4974-BB86-716E1339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3E4-B94E-4F7F-819F-803544DF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A48-0533-4442-8E33-8D9E4A1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921-160E-4A68-B2D1-3F4ED31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9F3-726D-45C7-9846-467BCF0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116F-CA84-4BA9-8FC1-98247F2D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gives an overview of the steps to create a simple Java project using the Textpad t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89B-FE4A-45A2-B5C5-C9A6CF4986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thing here is the capture output flag is on. This causes the compiler output to be in another tabbed window rather than in a separate DOS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onfig1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491472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5A4-F687-4807-A213-2F652DBF41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as abo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onfig2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9147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0D2-99F7-4847-9AE1-1214EB49C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Text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art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BD4-AB60-401F-B277-1DDED04B6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code to the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ddcode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74B-36B9-4217-8A71-BE2680F204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 the file as a jav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aveas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8A3-698D-45C2-8896-9D17A21FD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 using the ‘Tools’ menu and selecting ‘Compile’ or ctrl-1(Control-one). Output is in another tabbed window. See configuration sl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mpile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36F-4DF1-4DA4-BD80-B60F29CA0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‘Run’ option under the ‘Tools’ menu or ctrl-2, executes the current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u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B0F-7FDB-49C2-9E5F-A8C6E431E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the typo, printlxx rather than printl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rror1" descr=""/>
          <p:cNvPicPr/>
          <p:nvPr/>
        </p:nvPicPr>
        <p:blipFill>
          <a:blip r:embed="rId1"/>
          <a:stretch/>
        </p:blipFill>
        <p:spPr>
          <a:xfrm>
            <a:off x="990720" y="174312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390-8E8A-44B4-80E9-556D9735F0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 again shows the erro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rrcompile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D69-B021-4E5D-B222-1167F79EA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ing on the error message takes us to that line in the source co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umpto" descr=""/>
          <p:cNvPicPr/>
          <p:nvPr/>
        </p:nvPicPr>
        <p:blipFill>
          <a:blip r:embed="rId1"/>
          <a:stretch/>
        </p:blipFill>
        <p:spPr>
          <a:xfrm>
            <a:off x="914400" y="174312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B55-01F1-46AA-B41B-33D447ADB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4:40:05Z</dcterms:created>
  <dc:creator>kent archie</dc:creator>
  <dc:description/>
  <dc:language>en-US</dc:language>
  <cp:lastModifiedBy>kent archie</cp:lastModifiedBy>
  <dcterms:modified xsi:type="dcterms:W3CDTF">2003-11-14T21:25:21Z</dcterms:modified>
  <cp:revision>9</cp:revision>
  <dc:subject/>
  <dc:title>Starting Textpad</dc:title>
</cp:coreProperties>
</file>